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4C51-0FFC-4B23-B4C6-25D97F71B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49F5-717A-4E13-8CC8-746420AC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399E-8C7A-4E14-AA8B-2233E7E3A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676D-37BA-4C3C-9F52-C17D21891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EC9A-7426-41E3-9DDF-11BDBB48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995B-8049-453E-9311-81C68795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17FC-684A-41C0-853D-8ED0DB37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427E-58B1-404D-8457-4AF08ED7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8ED8-BC9A-4FD6-84C0-28671749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D481-0B89-48AD-A092-D029C704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618A-4BC4-4F5F-9428-1B906A80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72BC-952F-436F-9F0A-7AD15BBB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6A10-FABB-41BF-9AD3-22F23C18D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2205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500" spc="-1" strike="noStrike">
                <a:solidFill>
                  <a:srgbClr val="ffffff"/>
                </a:solidFill>
                <a:latin typeface="Verdana"/>
              </a:rPr>
              <a:t>Registracija in parkiranje domen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6103800"/>
            <a:ext cx="640080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ffffff"/>
                </a:solidFill>
                <a:latin typeface="Verdana"/>
              </a:rPr>
              <a:t>Staš Repše, 4.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ffffff"/>
                </a:solidFill>
                <a:latin typeface="Verdana"/>
              </a:rPr>
              <a:t>Nova Gorica, 29.01.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064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Kaj je dome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76360" y="1916280"/>
            <a:ext cx="750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Naslov računalnika na interne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ang.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IP-je lahko nadomestimo z domeno, saj si jo je lažje zapomniti. Zaradi istega razloga so leta 1994 vpeljali DNS (ang. Domain Name System) sistem, ki omogoča, da namesto IP naslovov npr. </a:t>
            </a:r>
            <a:r>
              <a:rPr b="1" lang="sl-SI" sz="1800" spc="-1" strike="noStrike">
                <a:solidFill>
                  <a:srgbClr val="ffffff"/>
                </a:solidFill>
                <a:latin typeface="Verdana"/>
              </a:rPr>
              <a:t>62.34.23.01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 uporabljamo imenske naslove npr. </a:t>
            </a:r>
            <a:r>
              <a:rPr b="1" lang="sl-SI" sz="1800" spc="-1" strike="noStrike">
                <a:solidFill>
                  <a:srgbClr val="ffffff"/>
                </a:solidFill>
                <a:latin typeface="Verdana"/>
              </a:rPr>
              <a:t>4ra.org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En strežnik lahko gosti več do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64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ff"/>
                </a:solidFill>
                <a:latin typeface="Verdana"/>
              </a:rPr>
              <a:t>Kaj je poddome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6360" y="1916280"/>
            <a:ext cx="750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Poddomena (ang. virtual host) je ime računalnika (na internetu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Vsi, ki imajo v lasti domeno lahko naredijo več poddomen npr. </a:t>
            </a:r>
            <a:r>
              <a:rPr b="1" lang="sl-SI" sz="1800" spc="-1" strike="noStrike">
                <a:solidFill>
                  <a:srgbClr val="ffffff"/>
                </a:solidFill>
                <a:latin typeface="Verdana"/>
              </a:rPr>
              <a:t>web.4ra.org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 ali </a:t>
            </a:r>
            <a:r>
              <a:rPr b="1" lang="sl-SI" sz="1800" spc="-1" strike="noStrike">
                <a:solidFill>
                  <a:srgbClr val="ffffff"/>
                </a:solidFill>
                <a:latin typeface="Verdana"/>
              </a:rPr>
              <a:t>forum.4ra.org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Poddomeno se naredi na računalniku, na katerem je  locirana dome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Strežnik ima lahko več poddo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Poddomene se lahko preusmeri tudi na drugi računalnik (npr. v lokalnih omrežjah – Tehniški Šolski Center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Poddomeno si lahko poljubno izmislimo (brez simbolov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64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Kaj pomenijo končnice domen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76360" y="1916280"/>
            <a:ext cx="750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Verdana"/>
              </a:rPr>
              <a:t>Vsaka končnica domene ponazarja zvrst ali drža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sl-SI" sz="2000" spc="-1" strike="noStrike">
                <a:solidFill>
                  <a:srgbClr val="ffffff"/>
                </a:solidFill>
                <a:latin typeface="Verdana"/>
              </a:rPr>
              <a:t>Npr. .si     -&gt; Sloven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sl-SI" sz="2000" spc="-1" strike="noStrike">
                <a:solidFill>
                  <a:srgbClr val="ffffff"/>
                </a:solidFill>
                <a:latin typeface="Verdana"/>
              </a:rPr>
              <a:t>.com -&gt; Komercial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sl-SI" sz="2000" spc="-1" strike="noStrike">
                <a:solidFill>
                  <a:srgbClr val="ffffff"/>
                </a:solidFill>
                <a:latin typeface="Verdana"/>
              </a:rPr>
              <a:t>.org   -&gt; Neprofitne organiz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sl-SI" sz="2000" spc="-1" strike="noStrike">
                <a:solidFill>
                  <a:srgbClr val="ffffff"/>
                </a:solidFill>
                <a:latin typeface="Verdana"/>
              </a:rPr>
              <a:t>.net   -&gt; omrežja (več računalnikov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sl-SI" sz="2000" spc="-1" strike="noStrike">
                <a:solidFill>
                  <a:srgbClr val="ffffff"/>
                </a:solidFill>
                <a:latin typeface="Verdana"/>
              </a:rPr>
              <a:t>.info   -&gt; Inform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sl-SI" sz="2000" spc="-1" strike="noStrike">
                <a:solidFill>
                  <a:srgbClr val="ffffff"/>
                </a:solidFill>
                <a:latin typeface="Verdana"/>
              </a:rPr>
              <a:t>itd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Verdana"/>
              </a:rPr>
              <a:t>Domene, ki so sestavljene iz dveh črk običajno ponazarjajo drža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064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Kje se da registrirati dome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76360" y="1916280"/>
            <a:ext cx="784872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omeno se lahko registrira pri vsakem ponudniku takšnih storite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ekaj podjetij, ki nudijo registracijo domene v Slovenij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3645000"/>
            <a:ext cx="338472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- Ar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- Domenca, Ti d.o.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- Flamme d.o.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- Slo-Domene, G-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- Slo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- Strežnik, Infobia d.o.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- Webte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- Vizije d.o.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59280" y="3645000"/>
            <a:ext cx="338472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www.arnes.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www.domenca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www.rihta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www.slo-domen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www.sloregister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www.streznik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www.webteh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www.inetia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451640" y="3645000"/>
            <a:ext cx="15843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rezplač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5.000 SI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4.490 SI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3.990 SI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4.490 SI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4.700 SI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3.500 SI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6.000 SI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064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li lahko vsak dobi poljubno dome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76360" y="1916280"/>
            <a:ext cx="750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Verdana"/>
              </a:rPr>
              <a:t>Ne, saj je dandanes registriranih že nekaj milijonov dom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Verdana"/>
              </a:rPr>
              <a:t>Pridobite lahko samo domeno, ki še ni bila registrirana in ima veljavno končn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Verdana"/>
              </a:rPr>
              <a:t>Ena izmed možnosti je tudi takšna, da domeno kupite od trenutnega lastnika. Če se lastnik domene odloči za prodajo vam zaračuna, kar nekaj denar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Verdana"/>
              </a:rPr>
              <a:t>Zanimivost: V Sloveniji je samo pri podjetju Ti d.o.o. (www.domenca.com) trenutno (januar 2003) registriranih </a:t>
            </a:r>
            <a:r>
              <a:rPr b="1" lang="sl-SI" sz="2000" spc="-1" strike="noStrike">
                <a:solidFill>
                  <a:srgbClr val="ffffff"/>
                </a:solidFill>
                <a:latin typeface="Verdana"/>
              </a:rPr>
              <a:t>1212</a:t>
            </a:r>
            <a:r>
              <a:rPr b="0" lang="sl-SI" sz="2000" spc="-1" strike="noStrike">
                <a:solidFill>
                  <a:srgbClr val="ffffff"/>
                </a:solidFill>
                <a:latin typeface="Verdana"/>
              </a:rPr>
              <a:t> dom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064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Kaj storiti, ko imaš enkrat v lasti domen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76360" y="1916280"/>
            <a:ext cx="750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b registraciji domene je potrebno podatke o parkiranju domene vpisati v dva DNS strežnik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pis v DNS strežnike lahko opravite tudi preko ponudnika do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ena takšne storitve pa je odvisna od ponudnika (okoli 2.000 SI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064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Kako in kje lahko imaš spletno stra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76000" y="1916280"/>
            <a:ext cx="76676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b nakupu domene vam ponudnik ponudi tudi gostovan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Zanimivost: Nekateri ponudniki, ki omogočajo registracijo domene in nudijo spletni prostor, vam ponudijo prva dva meseca brezplačnega gostovanja na njihovem strežni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064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Kako lahko dobite domeno .si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76360" y="1916280"/>
            <a:ext cx="7508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Če ste podjetje ali društvo (s.p. , d.o.o.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Izberete poljubno domeno (ime podjetja ali dejavn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Izpolnite Arnes-ove obrazce (glavni ponudnik .si dom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Pošljete izpolnjene obrazce z vsemi potrebnimi podpisi in dokumentacij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Če je vse v redu dobite domeno v nekaj dne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Če je kaj narobe, vas obvestijo in povejo kje so težav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9T17:47:31Z</dcterms:created>
  <dc:creator>Staš</dc:creator>
  <dc:description/>
  <dc:language>en-US</dc:language>
  <cp:lastModifiedBy>Staš</cp:lastModifiedBy>
  <dcterms:modified xsi:type="dcterms:W3CDTF">2003-02-08T21:38:20Z</dcterms:modified>
  <cp:revision>52</cp:revision>
  <dc:subject/>
  <dc:title>Slide 1</dc:title>
</cp:coreProperties>
</file>