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1BF-167B-4D4B-9B34-47C05840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ED5-892B-4C42-84E3-36509783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056-AA3F-4EC8-95DC-E01E66A3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17F-C2D7-4AC0-B1A3-4F8718B8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9D95-C92C-47B6-865C-FD57FA32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E49-F579-461A-A1B0-27AE8541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3368-8791-4262-B482-4906362D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00B7-03DD-4941-967B-4EC7B72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34FC-7BE9-452B-85A4-E495F35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F371-178D-479F-B344-D8E7FB0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3411-7BF3-4DC7-924A-A2163CD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77D-F450-475B-8183-D23C98B6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1C05-1A1E-4AC3-B74F-D25B2D4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3C9-A570-489B-AFD3-F20647BE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39CE-A3E4-46B6-9F8D-C12133EC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EC66-FAFC-4D45-B947-06E92736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6AC-F6E8-4D07-AFC4-98B4EE60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D0D-658C-4284-BA88-D93AF374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7BF-FC84-4019-847D-D555BF5C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226-6700-4525-A6CF-8A55640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B36-C16C-49E7-BA83-8ACEBEA5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116-2B68-462D-A171-5FCE10F4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103-3789-4032-A180-4FAF543A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A71-3697-4AE3-A9E4-A2D38755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446B-8065-475A-88F3-9C7206EF4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50E9-77DB-4F4A-A62A-384EB12BE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eminarske_naloge/seminarske_naloge.html" TargetMode="External"/><Relationship Id="rId2" Type="http://schemas.openxmlformats.org/officeDocument/2006/relationships/hyperlink" Target="file:///Seminarske_naloge/seminarske_nalog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bcbcb"/>
                </a:solidFill>
                <a:latin typeface="Times New Roman"/>
              </a:rPr>
              <a:t>Pristop k razvoju v elektronik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blem - ide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jekt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risanje električne sheme vez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ks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bava materi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estavljanje vezja na eksperimentalni plošči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gramiranje (v primeru uporabe programirljivih čipov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preminjanje vez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Protot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konstruirano tiskano vezje je potrebno zjedkati iz pobakrene pertinaks plošč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 izvrtane luknjice se vstavijo in prispajkajo elektronski elemen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ed priključitvijo se napake poiščejo in odpravi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tisk_proto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55920" cy="2344680"/>
          </a:xfrm>
          <a:prstGeom prst="rect">
            <a:avLst/>
          </a:prstGeom>
          <a:ln w="0">
            <a:noFill/>
          </a:ln>
        </p:spPr>
      </p:pic>
      <p:pic>
        <p:nvPicPr>
          <p:cNvPr id="156" name="prototip" descr=""/>
          <p:cNvPicPr/>
          <p:nvPr/>
        </p:nvPicPr>
        <p:blipFill>
          <a:blip r:embed="rId2"/>
          <a:srcRect l="5206" t="20152" r="7619" b="19069"/>
          <a:stretch/>
        </p:blipFill>
        <p:spPr>
          <a:xfrm>
            <a:off x="4572000" y="4191120"/>
            <a:ext cx="4267080" cy="2438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91120" y="28195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Dokončanje izdelk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bira primernega ohiš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strucija primerne tiskane plošč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ohišje+tisk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586320" cy="478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91120" y="31240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5562720"/>
            <a:ext cx="1219320" cy="304560"/>
          </a:xfrm>
          <a:prstGeom prst="rightArrow">
            <a:avLst>
              <a:gd name="adj1" fmla="val 50000"/>
              <a:gd name="adj2" fmla="val 100089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3810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 ohiš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v%20ohišju" descr=""/>
          <p:cNvPicPr/>
          <p:nvPr/>
        </p:nvPicPr>
        <p:blipFill>
          <a:blip r:embed="rId1"/>
          <a:srcRect l="0" t="20250" r="0" b="8314"/>
          <a:stretch/>
        </p:blipFill>
        <p:spPr>
          <a:xfrm>
            <a:off x="838080" y="1752480"/>
            <a:ext cx="8077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837720"/>
            <a:ext cx="79250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ključit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.telefon,       PTT,           220V,                   2.telef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riključitev" descr=""/>
          <p:cNvPicPr/>
          <p:nvPr/>
        </p:nvPicPr>
        <p:blipFill>
          <a:blip r:embed="rId1"/>
          <a:srcRect l="0" t="21735" r="0" b="6823"/>
          <a:stretch/>
        </p:blipFill>
        <p:spPr>
          <a:xfrm>
            <a:off x="685800" y="2286000"/>
            <a:ext cx="8153280" cy="4363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09680"/>
            <a:ext cx="990360" cy="15242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476760" y="2286000"/>
            <a:ext cx="685800" cy="12952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286000"/>
            <a:ext cx="1752840" cy="19810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209680"/>
            <a:ext cx="228600" cy="4572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10600" y="5713920"/>
            <a:ext cx="131616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avod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419720" y="5181480"/>
            <a:ext cx="7596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Razvoj se nadaljuje …</a:t>
            </a:r>
            <a:br>
              <a:rPr sz="4400"/>
            </a:br>
            <a:r>
              <a:rPr b="0" lang="sl-SI" sz="3600" spc="-1" strike="noStrike">
                <a:solidFill>
                  <a:srgbClr val="cbcbcb"/>
                </a:solidFill>
                <a:latin typeface="Times New Roman"/>
              </a:rPr>
              <a:t>Prototip hišne centrale za štiri telefone.</a:t>
            </a:r>
            <a:br>
              <a:rPr sz="3600"/>
            </a:b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žnost direktnega klicanja izbranega priključka   (avtom. telefonis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aljinsko vključevanje porabnikov (npr. vklop ogrevanja preko mobite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drmf4%20zlotana" descr=""/>
          <p:cNvPicPr/>
          <p:nvPr/>
        </p:nvPicPr>
        <p:blipFill>
          <a:blip r:embed="rId1"/>
          <a:srcRect l="0" t="0" r="0" b="5143"/>
          <a:stretch/>
        </p:blipFill>
        <p:spPr>
          <a:xfrm>
            <a:off x="4724280" y="1981080"/>
            <a:ext cx="3851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Seminarske in raziskovalne naloge dijakov v obliki inovacij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Večletno prizadevno delo učiteljev in učencev na naši šoli je dalo obilo teoretično in praktično rešenih nalog na področju programirljivih elektronskih sistemo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 primer .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azvojni sistem za programiranje mikrokrmilnika PIC16F8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-11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- programator,       testna plošč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_prog" descr=""/>
          <p:cNvPicPr/>
          <p:nvPr/>
        </p:nvPicPr>
        <p:blipFill>
          <a:blip r:embed="rId1"/>
          <a:srcRect l="23203" t="57726" r="19678" b="7186"/>
          <a:stretch/>
        </p:blipFill>
        <p:spPr>
          <a:xfrm>
            <a:off x="0" y="3200400"/>
            <a:ext cx="3886200" cy="1790640"/>
          </a:xfrm>
          <a:prstGeom prst="rect">
            <a:avLst/>
          </a:prstGeom>
          <a:ln w="0">
            <a:noFill/>
          </a:ln>
        </p:spPr>
      </p:pic>
      <p:pic>
        <p:nvPicPr>
          <p:cNvPr id="182" name="demo_pl" descr="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Z PIC-om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ndustrijski krmilnik z grafičnim programiranj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Krmilnik 5 vhodov 5 izhodov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100" spc="-1" strike="noStrike">
                <a:solidFill>
                  <a:srgbClr val="ffffff"/>
                </a:solidFill>
                <a:latin typeface="Times New Roman"/>
              </a:rPr>
              <a:t>Program za bliskajočo puščic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_plc_sam1zmanjsan4a" descr=""/>
          <p:cNvPicPr/>
          <p:nvPr/>
        </p:nvPicPr>
        <p:blipFill>
          <a:blip r:embed="rId1"/>
          <a:srcRect l="6579" t="7422" r="27632" b="3110"/>
          <a:stretch/>
        </p:blipFill>
        <p:spPr>
          <a:xfrm>
            <a:off x="380880" y="2286000"/>
            <a:ext cx="381024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rogram%20picbitPuscica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152600" y="1446480"/>
            <a:ext cx="41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2. nagrada - Nova Gorica  2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etvornik 1-wire komunikacije v RS232 in</a:t>
            </a:r>
            <a:r>
              <a:rPr b="0" lang="sl-SI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rilnik temperature za priključitev na PC računaln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mer_temp" descr=""/>
          <p:cNvPicPr/>
          <p:nvPr/>
        </p:nvPicPr>
        <p:blipFill>
          <a:blip r:embed="rId1"/>
          <a:srcRect l="12003" t="7118" r="20001" b="25280"/>
          <a:stretch/>
        </p:blipFill>
        <p:spPr>
          <a:xfrm>
            <a:off x="0" y="1828800"/>
            <a:ext cx="3429000" cy="2554200"/>
          </a:xfrm>
          <a:prstGeom prst="rect">
            <a:avLst/>
          </a:prstGeom>
          <a:ln w="0">
            <a:noFill/>
          </a:ln>
        </p:spPr>
      </p:pic>
      <p:pic>
        <p:nvPicPr>
          <p:cNvPr id="190" name="mer_temp_small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590560" cy="1939680"/>
          </a:xfrm>
          <a:prstGeom prst="rect">
            <a:avLst/>
          </a:prstGeom>
          <a:ln w="0">
            <a:noFill/>
          </a:ln>
        </p:spPr>
      </p:pic>
      <p:pic>
        <p:nvPicPr>
          <p:cNvPr id="191" name="ekran" descr=""/>
          <p:cNvPicPr/>
          <p:nvPr/>
        </p:nvPicPr>
        <p:blipFill>
          <a:blip r:embed="rId3"/>
          <a:stretch/>
        </p:blipFill>
        <p:spPr>
          <a:xfrm>
            <a:off x="3733920" y="22096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239720" y="1598760"/>
            <a:ext cx="41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3. nagrada - Nova Gorica  2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adoamaterski taster s spomi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taster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24664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Izdelava prototip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delava tiskane ploščic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pajkanje,preizk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okončanje izde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bira ohišj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struiranje primerne tiskane ploščice za v ohišj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delava navodil za uporab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bcbcb"/>
                </a:solidFill>
                <a:latin typeface="Times New Roman"/>
              </a:rPr>
              <a:t>Pristop k razvoju v elektroniki -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A/D in D/A vmesnik na COM portu PC računalnika P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Generator testne slike za TV serv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Temperaturni regulator (ON/OFF,PID in FUZZY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Univerzalni IR sprejemnik (s TV daljincem vklopiš luč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Klima piščančje far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Semaforizirano križišč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000" spc="-1" strike="noStrike">
                <a:solidFill>
                  <a:srgbClr val="ffffff"/>
                </a:solidFill>
                <a:latin typeface="Times New Roman"/>
              </a:rPr>
              <a:t>Itd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In še več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Z Atmel-om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737000"/>
            <a:ext cx="81532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stna plošč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ikromiš (premikajoči se robot , ki sam najde izhod iz labirin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atmel_testana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334120" cy="399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240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99cc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Razstava - dan odprtih vr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 današnji razstavi je nekaj teh, pa tudi drugih rešenih nalo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 ogled so v  učilnicah 136,141,145 v pritličj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Večina nalog je objavljenih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www.elektro-sola-ptuj.uni.cc “</a:t>
            </a:r>
            <a:r>
              <a:rPr b="0" lang="sl-SI" sz="2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Seminarske in raziskovalne </a:t>
            </a:r>
            <a:r>
              <a:rPr b="0" lang="sl-SI" sz="2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naloge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800600"/>
            <a:ext cx="5029200" cy="457200"/>
          </a:xfrm>
          <a:prstGeom prst="rect">
            <a:avLst/>
          </a:prstGeom>
          <a:noFill/>
          <a:ln cap="sq"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Maloserijska proizvodn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bira dobavitelja tiskane plošči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bava večje količine elektronskih kompon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rganiziranje spajkanja in končnega preizk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idobitev dovoljenj in atest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edstavitev možnim kupc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Organizacija prodaje in serv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cbcbcb"/>
                </a:solidFill>
                <a:latin typeface="Times New Roman"/>
              </a:rPr>
              <a:t>Pristop k razvoju v elektroniki - 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cbcbcb"/>
                </a:solidFill>
                <a:latin typeface="Times New Roman"/>
              </a:rPr>
              <a:t>Primer razvoja:</a:t>
            </a:r>
            <a:br>
              <a:rPr sz="3200"/>
            </a:b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Hišna telefonska central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eč telefonskih aparatov na isti liniji, med njimi ni možna prevezava (nadležna hoja in klican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Rešite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nteligentna škatlica preko katere so vezani vsi aparati omogoči prevezavo in interne pogov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a zunanje klice naj bo neopaz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Projektiran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ikrokontro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Rele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ritev to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220V napaj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Generator napetosti za zvonec 60V~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načrt_entrale" descr=""/>
          <p:cNvPicPr/>
          <p:nvPr/>
        </p:nvPicPr>
        <p:blipFill>
          <a:blip r:embed="rId1"/>
          <a:srcRect l="0" t="11201" r="0" b="21603"/>
          <a:stretch/>
        </p:blipFill>
        <p:spPr>
          <a:xfrm>
            <a:off x="3276720" y="1828800"/>
            <a:ext cx="563868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971800" y="2438280"/>
            <a:ext cx="1143000" cy="25909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2819520"/>
            <a:ext cx="5333760" cy="1447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38280" y="2362320"/>
            <a:ext cx="4419720" cy="9144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71800" y="3657240"/>
            <a:ext cx="380880" cy="1522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819520" y="3123720"/>
            <a:ext cx="838080" cy="21337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Eksperi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rez poskusnega  vezja ni š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gram za mikrokontroler nastaja postopoma, zato je primeren takšen,ki mu lahko programiram večkrat vpiše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2590920"/>
            <a:ext cx="1904760" cy="380880"/>
          </a:xfrm>
          <a:prstGeom prst="rightArrow">
            <a:avLst>
              <a:gd name="adj1" fmla="val 50000"/>
              <a:gd name="adj2" fmla="val 125024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eksperimet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416400" cy="2565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1800" y="4038480"/>
            <a:ext cx="3505320" cy="0"/>
          </a:xfrm>
          <a:prstGeom prst="line">
            <a:avLst/>
          </a:prstGeom>
          <a:ln cap="sq" w="1260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bcbcb"/>
                </a:solidFill>
                <a:latin typeface="Times New Roman"/>
              </a:rPr>
              <a:t>Programiranje mikrokontrolerja PIC16F84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otrebno je poznati notranjo strukturo in programske ukaze. (informacije iz interneta)                        (proizvajalec: WWW.MICROCHIP.C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16f8x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2819160" cy="2081160"/>
          </a:xfrm>
          <a:prstGeom prst="rect">
            <a:avLst/>
          </a:prstGeom>
          <a:ln w="0">
            <a:noFill/>
          </a:ln>
        </p:spPr>
      </p:pic>
      <p:pic>
        <p:nvPicPr>
          <p:cNvPr id="146" name="pic-i%20tabela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51814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evajalnik ASSEMBLER                          je brezplačen na istem “microchip.co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gram je napisan na ta nač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rogram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029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-188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gramator je vezje za vpis programa v č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Lahko ga kupiš ali izdelaš sam. Priključi se na PC računalni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_prog" descr=""/>
          <p:cNvPicPr/>
          <p:nvPr/>
        </p:nvPicPr>
        <p:blipFill>
          <a:blip r:embed="rId1"/>
          <a:srcRect l="16068" t="0" r="14322" b="0"/>
          <a:stretch/>
        </p:blipFill>
        <p:spPr>
          <a:xfrm>
            <a:off x="533520" y="2819520"/>
            <a:ext cx="2971800" cy="32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3962520" y="2895480"/>
          <a:ext cx="4952880" cy="30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895480"/>
                    <a:ext cx="4952880" cy="30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8:43:13Z</dcterms:created>
  <dc:creator>Slavko Murko</dc:creator>
  <dc:description/>
  <dc:language>en-US</dc:language>
  <cp:lastModifiedBy>Slavko Murko</cp:lastModifiedBy>
  <dcterms:modified xsi:type="dcterms:W3CDTF">2001-05-10T22:25:44Z</dcterms:modified>
  <cp:revision>13</cp:revision>
  <dc:subject/>
  <dc:title>Razvoj elektronskih naprav</dc:title>
</cp:coreProperties>
</file>