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422-0656-44FE-A211-68A5DA02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312-7A1B-448A-AD7B-376C8D2E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F74B-3EAF-404F-B193-60CF31F3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24D-6E17-40FE-8639-4256773E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96BF-A087-4593-90DF-FA897B56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E721-0475-4B64-BE00-558B83BD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C173-5DCC-4697-BC35-841ECE7C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5042-9E9F-48B2-AA8C-4869D92D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CECA-BD92-4433-B688-14BD0DA2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27FA-F25E-4D39-88BB-E2752097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3687-EEE8-4AEB-83B5-6333600A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A1A-035D-4D45-9617-BE3E52A7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A379-80F6-46E6-8B23-01554AA4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BB7B-89F8-439E-89BC-3F416553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4895-0E75-4824-9996-872648E2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5390-D87E-475E-891A-4D45636E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35A6-5CB0-47BA-9F77-A7B46ADB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EBF-EF94-41B0-837A-A2EE883B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C5B-D2BE-427A-8FD3-C3697660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4C0-1BAF-4AA5-BDD0-2173457D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5DB-3206-461F-AF31-1495FF1C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2A9-779B-473D-9551-C2B4429E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A71-533F-4C4B-863B-258E3A98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571-6BF8-4FCF-BD2F-21F2C89D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192E-2E26-4CF9-873A-C8E3F83DC3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65E5-C4D6-44EB-B747-DA429220B7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eminarske_naloge/seminarske_naloge.html" TargetMode="External"/><Relationship Id="rId2" Type="http://schemas.openxmlformats.org/officeDocument/2006/relationships/hyperlink" Target="file:///Seminarske_naloge/seminarske_naloge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cbcbcb"/>
                </a:solidFill>
                <a:latin typeface="Times New Roman"/>
              </a:rPr>
              <a:t>Pristop k razvoju v elektronik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oblem - idej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ojektir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risanje električne sheme vez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Eksperi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abava materi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estavljanje vezja na eksperimentalni ploščic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ogramiranje (v primeru uporabe programirljivih čipov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preminjanje vez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Prototi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konstruirano tiskano vezje je potrebno zjedkati iz pobakrene pertinaks plošč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V izvrtane luknjice se vstavijo in prispajkajo elektronski elemen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ed priključitvijo se napake poiščejo in odpravi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tisk_proto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255920" cy="2344680"/>
          </a:xfrm>
          <a:prstGeom prst="rect">
            <a:avLst/>
          </a:prstGeom>
          <a:ln w="0">
            <a:noFill/>
          </a:ln>
        </p:spPr>
      </p:pic>
      <p:pic>
        <p:nvPicPr>
          <p:cNvPr id="156" name="prototip" descr=""/>
          <p:cNvPicPr/>
          <p:nvPr/>
        </p:nvPicPr>
        <p:blipFill>
          <a:blip r:embed="rId2"/>
          <a:srcRect l="5206" t="20152" r="7619" b="19069"/>
          <a:stretch/>
        </p:blipFill>
        <p:spPr>
          <a:xfrm>
            <a:off x="4572000" y="4191120"/>
            <a:ext cx="4267080" cy="2438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191120" y="28195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99cc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5105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99cc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Dokončanje izdelk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zbira primernega ohiš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nstrucija primerne tiskane plošč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ohišje+tisk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586320" cy="478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91120" y="31240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99cc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5562720"/>
            <a:ext cx="1219320" cy="304560"/>
          </a:xfrm>
          <a:prstGeom prst="rightArrow">
            <a:avLst>
              <a:gd name="adj1" fmla="val 50000"/>
              <a:gd name="adj2" fmla="val 100089"/>
            </a:avLst>
          </a:prstGeom>
          <a:solidFill>
            <a:srgbClr val="99cc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38102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V ohiš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v%20ohišju" descr=""/>
          <p:cNvPicPr/>
          <p:nvPr/>
        </p:nvPicPr>
        <p:blipFill>
          <a:blip r:embed="rId1"/>
          <a:srcRect l="0" t="20250" r="0" b="8314"/>
          <a:stretch/>
        </p:blipFill>
        <p:spPr>
          <a:xfrm>
            <a:off x="838080" y="1752480"/>
            <a:ext cx="80773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837720"/>
            <a:ext cx="792504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iključite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1.telefon,       PTT,           220V,                   2.telef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riključitev" descr=""/>
          <p:cNvPicPr/>
          <p:nvPr/>
        </p:nvPicPr>
        <p:blipFill>
          <a:blip r:embed="rId1"/>
          <a:srcRect l="0" t="21735" r="0" b="6823"/>
          <a:stretch/>
        </p:blipFill>
        <p:spPr>
          <a:xfrm>
            <a:off x="685800" y="2286000"/>
            <a:ext cx="8153280" cy="4363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09680"/>
            <a:ext cx="990360" cy="15242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476760" y="2286000"/>
            <a:ext cx="685800" cy="129528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286000"/>
            <a:ext cx="1752840" cy="198108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209680"/>
            <a:ext cx="228600" cy="45720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10600" y="5713920"/>
            <a:ext cx="1316160" cy="45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avod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419720" y="5181480"/>
            <a:ext cx="75960" cy="5335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Razvoj se nadaljuje …</a:t>
            </a:r>
            <a:br>
              <a:rPr sz="4400"/>
            </a:br>
            <a:r>
              <a:rPr b="0" lang="sl-SI" sz="3600" spc="-1" strike="noStrike">
                <a:solidFill>
                  <a:srgbClr val="cbcbcb"/>
                </a:solidFill>
                <a:latin typeface="Times New Roman"/>
              </a:rPr>
              <a:t>Prototip hišne centrale za štiri telefone.</a:t>
            </a:r>
            <a:br>
              <a:rPr sz="36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ožnost direktnega klicanja izbranega priključka   (avtom. telefonist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Daljinsko vključevanje porabnikov (npr. vklop ogrevanja preko mobitel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drmf4%20zlotana" descr=""/>
          <p:cNvPicPr/>
          <p:nvPr/>
        </p:nvPicPr>
        <p:blipFill>
          <a:blip r:embed="rId1"/>
          <a:srcRect l="0" t="0" r="0" b="5143"/>
          <a:stretch/>
        </p:blipFill>
        <p:spPr>
          <a:xfrm>
            <a:off x="4724280" y="1981080"/>
            <a:ext cx="3851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Seminarske in raziskovalne naloge dijakov v obliki inovacij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Večletno prizadevno delo učiteljev in učencev na naši šoli je dalo obilo teoretično in praktično rešenih nalog na področju programirljivih elektronskih sistemo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Na primer 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4000"/>
          </a:bodyPr>
          <a:p>
            <a:pPr marL="116640" indent="-116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Razvojni sistem za programiranje mikrokrmilnika PIC16F8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-11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- programator,       testna plošč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_prog" descr=""/>
          <p:cNvPicPr/>
          <p:nvPr/>
        </p:nvPicPr>
        <p:blipFill>
          <a:blip r:embed="rId1"/>
          <a:srcRect l="23203" t="57726" r="19678" b="7186"/>
          <a:stretch/>
        </p:blipFill>
        <p:spPr>
          <a:xfrm>
            <a:off x="0" y="3200400"/>
            <a:ext cx="3886200" cy="1790640"/>
          </a:xfrm>
          <a:prstGeom prst="rect">
            <a:avLst/>
          </a:prstGeom>
          <a:ln w="0">
            <a:noFill/>
          </a:ln>
        </p:spPr>
      </p:pic>
      <p:pic>
        <p:nvPicPr>
          <p:cNvPr id="182" name="demo_pl" descr=""/>
          <p:cNvPicPr/>
          <p:nvPr/>
        </p:nvPicPr>
        <p:blipFill>
          <a:blip r:embed="rId2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Z PIC-om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ndustrijski krmilnik z grafičnim programiranj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3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35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ffffff"/>
                </a:solidFill>
                <a:latin typeface="Times New Roman"/>
              </a:rPr>
              <a:t>Krmilnik 5 vhodov 5 izhodov</a:t>
            </a:r>
            <a:r>
              <a:rPr b="0" lang="sl-SI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1335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100" spc="-1" strike="noStrike">
                <a:solidFill>
                  <a:srgbClr val="ffffff"/>
                </a:solidFill>
                <a:latin typeface="Times New Roman"/>
              </a:rPr>
              <a:t>Program za bliskajočo puščic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_plc_sam1zmanjsan4a" descr=""/>
          <p:cNvPicPr/>
          <p:nvPr/>
        </p:nvPicPr>
        <p:blipFill>
          <a:blip r:embed="rId1"/>
          <a:srcRect l="6579" t="7422" r="27632" b="3110"/>
          <a:stretch/>
        </p:blipFill>
        <p:spPr>
          <a:xfrm>
            <a:off x="380880" y="2286000"/>
            <a:ext cx="3810240" cy="3886200"/>
          </a:xfrm>
          <a:prstGeom prst="rect">
            <a:avLst/>
          </a:prstGeom>
          <a:ln w="0">
            <a:noFill/>
          </a:ln>
        </p:spPr>
      </p:pic>
      <p:pic>
        <p:nvPicPr>
          <p:cNvPr id="186" name="program%20picbitPuscica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4267440" cy="3504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152600" y="1446480"/>
            <a:ext cx="41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2. nagrada - Nova Gorica  2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etvornik 1-wire komunikacije v RS232 in</a:t>
            </a:r>
            <a:r>
              <a:rPr b="0" lang="sl-SI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erilnik temperature za priključitev na PC računaln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mer_temp" descr=""/>
          <p:cNvPicPr/>
          <p:nvPr/>
        </p:nvPicPr>
        <p:blipFill>
          <a:blip r:embed="rId1"/>
          <a:srcRect l="12003" t="7118" r="20001" b="25280"/>
          <a:stretch/>
        </p:blipFill>
        <p:spPr>
          <a:xfrm>
            <a:off x="0" y="1828800"/>
            <a:ext cx="3429000" cy="2554200"/>
          </a:xfrm>
          <a:prstGeom prst="rect">
            <a:avLst/>
          </a:prstGeom>
          <a:ln w="0">
            <a:noFill/>
          </a:ln>
        </p:spPr>
      </p:pic>
      <p:pic>
        <p:nvPicPr>
          <p:cNvPr id="190" name="mer_temp_small" descr=""/>
          <p:cNvPicPr/>
          <p:nvPr/>
        </p:nvPicPr>
        <p:blipFill>
          <a:blip r:embed="rId2"/>
          <a:stretch/>
        </p:blipFill>
        <p:spPr>
          <a:xfrm>
            <a:off x="533520" y="4648320"/>
            <a:ext cx="2590560" cy="1939680"/>
          </a:xfrm>
          <a:prstGeom prst="rect">
            <a:avLst/>
          </a:prstGeom>
          <a:ln w="0">
            <a:noFill/>
          </a:ln>
        </p:spPr>
      </p:pic>
      <p:pic>
        <p:nvPicPr>
          <p:cNvPr id="191" name="ekran" descr=""/>
          <p:cNvPicPr/>
          <p:nvPr/>
        </p:nvPicPr>
        <p:blipFill>
          <a:blip r:embed="rId3"/>
          <a:stretch/>
        </p:blipFill>
        <p:spPr>
          <a:xfrm>
            <a:off x="3733920" y="22096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239720" y="1598760"/>
            <a:ext cx="41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3. nagrada - Nova Gorica  2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Radoamaterski taster s spomin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taster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24664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Izdelava prototip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zdelava tiskane ploščic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pajkanje,preizk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Dokončanje izde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zbira ohišj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nstruiranje primerne tiskane ploščice za v ohišj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zdelava navodil za uporab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cbcbcb"/>
                </a:solidFill>
                <a:latin typeface="Times New Roman"/>
              </a:rPr>
              <a:t>Pristop k razvoju v elektroniki - 2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A/D in D/A vmesnik na COM portu PC računalnika P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Generator testne slike za TV servi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Temperaturni regulator (ON/OFF,PID in FUZZY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Univerzalni IR sprejemnik (s TV daljincem vklopiš luč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Klima piščančje far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Semaforizirano križišč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Itd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In še več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Z Atmel-om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737000"/>
            <a:ext cx="81532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Testna plošč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ikromiš (premikajoči se robot , ki sam najde izhod iz labirin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atmel_testana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5334120" cy="3994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124080" y="19051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99cc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Razstava - dan odprtih vr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Na današnji razstavi je nekaj teh, pa tudi drugih rešenih nalo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Na ogled so v  učilnicah 136,141,145 v pritličj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Večina nalog je objavljenih 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www.elektro-sola-ptuj.uni.cc “</a:t>
            </a:r>
            <a:r>
              <a:rPr b="0" lang="sl-SI" sz="24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Seminarske in raziskovalne </a:t>
            </a:r>
            <a:r>
              <a:rPr b="0" lang="sl-SI" sz="24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naloge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4800600"/>
            <a:ext cx="5029200" cy="457200"/>
          </a:xfrm>
          <a:prstGeom prst="rect">
            <a:avLst/>
          </a:prstGeom>
          <a:noFill/>
          <a:ln cap="sq"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Maloserijska proizvodn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zbira dobavitelja tiskane plošči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abava večje količine elektronskih kompon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rganiziranje spajkanja in končnega preizku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idobitev dovoljenj in atest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edstavitev možnim kupc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Organizacija prodaje in servi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cbcbcb"/>
                </a:solidFill>
                <a:latin typeface="Times New Roman"/>
              </a:rPr>
              <a:t>Pristop k razvoju v elektroniki - 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bcbcb"/>
                </a:solidFill>
                <a:latin typeface="Times New Roman"/>
              </a:rPr>
              <a:t>Primer razvoja:</a:t>
            </a:r>
            <a:br>
              <a:rPr sz="3200"/>
            </a:b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Hišna telefonska centra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več telefonskih aparatov na isti liniji, med njimi ni možna prevezava (nadležna hoja in klicanj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Rešitev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nteligentna škatlica preko katere so vezani vsi aparati omogoči prevezavo in interne pogov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za zunanje klice naj bo neopaz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Projektiranj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2895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ikrokontro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Rele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eritev to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220V napaj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Generator napetosti za zvonec 60V~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načrt_entrale" descr=""/>
          <p:cNvPicPr/>
          <p:nvPr/>
        </p:nvPicPr>
        <p:blipFill>
          <a:blip r:embed="rId1"/>
          <a:srcRect l="0" t="11201" r="0" b="21603"/>
          <a:stretch/>
        </p:blipFill>
        <p:spPr>
          <a:xfrm>
            <a:off x="3276720" y="1828800"/>
            <a:ext cx="5638680" cy="4648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971800" y="2438280"/>
            <a:ext cx="1143000" cy="25909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2819520"/>
            <a:ext cx="5333760" cy="144756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438280" y="2362320"/>
            <a:ext cx="4419720" cy="91440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971800" y="3657240"/>
            <a:ext cx="380880" cy="15228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819520" y="3123720"/>
            <a:ext cx="838080" cy="21337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Eksperi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Brez poskusnega  vezja ni š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ogram za mikrokontroler nastaja postopoma, zato je primeren takšen,ki mu lahko programiram večkrat vpišem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2590920"/>
            <a:ext cx="1904760" cy="380880"/>
          </a:xfrm>
          <a:prstGeom prst="rightArrow">
            <a:avLst>
              <a:gd name="adj1" fmla="val 50000"/>
              <a:gd name="adj2" fmla="val 125024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eksperimet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416400" cy="2565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971800" y="4038480"/>
            <a:ext cx="35053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Programiranje mikrokontrolerja PIC16F84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otrebno je poznati notranjo strukturo in programske ukaze. (informacije iz interneta)                        (proizvajalec: WWW.MICROCHIP.CO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16f8x" descr=""/>
          <p:cNvPicPr/>
          <p:nvPr/>
        </p:nvPicPr>
        <p:blipFill>
          <a:blip r:embed="rId1"/>
          <a:stretch/>
        </p:blipFill>
        <p:spPr>
          <a:xfrm>
            <a:off x="762120" y="3962520"/>
            <a:ext cx="2819160" cy="2081160"/>
          </a:xfrm>
          <a:prstGeom prst="rect">
            <a:avLst/>
          </a:prstGeom>
          <a:ln w="0">
            <a:noFill/>
          </a:ln>
        </p:spPr>
      </p:pic>
      <p:pic>
        <p:nvPicPr>
          <p:cNvPr id="146" name="pic-i%20tabela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51814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evajalnik ASSEMBLER                          je brezplačen na istem “microchip.com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ogram je napisan na ta nač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rogram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029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ogramator je vezje za vpis programa v č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Lahko ga kupiš ali izdelaš sam. Priključi se na PC računalni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_prog" descr=""/>
          <p:cNvPicPr/>
          <p:nvPr/>
        </p:nvPicPr>
        <p:blipFill>
          <a:blip r:embed="rId1"/>
          <a:srcRect l="16068" t="0" r="14322" b="0"/>
          <a:stretch/>
        </p:blipFill>
        <p:spPr>
          <a:xfrm>
            <a:off x="533520" y="2819520"/>
            <a:ext cx="2971800" cy="320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3962520" y="2895480"/>
          <a:ext cx="4952880" cy="305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2895480"/>
                    <a:ext cx="495288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8:43:13Z</dcterms:created>
  <dc:creator>Slavko Murko</dc:creator>
  <dc:description/>
  <dc:language>en-US</dc:language>
  <cp:lastModifiedBy>Slavko Murko</cp:lastModifiedBy>
  <dcterms:modified xsi:type="dcterms:W3CDTF">2001-05-10T22:25:44Z</dcterms:modified>
  <cp:revision>13</cp:revision>
  <dc:subject/>
  <dc:title>Razvoj elektronskih naprav</dc:title>
</cp:coreProperties>
</file>