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B0DC-4E64-4FC9-8DE6-500F31EF1F0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570-6754-43B5-A385-CCBF6778EA0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5695-071D-47E9-80F7-3EA8F5FFFE1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4B5-2B8A-4C70-B7BA-555DA4619D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7E4C-EC91-4DD5-A135-CC45C638089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49C-ABF2-4ACC-9776-D1BC2FA55C1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21D7-0302-4743-B949-B093D0637C9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C050-7FF6-4652-AEF1-71BD9DF640C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F7A-6FBE-407A-A3C0-52FFA5E3BD2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66A-A56D-4A81-9D17-F5FBE0A53C3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A6F4-067E-4E3D-BE81-52CA24C8F8C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8352-A9E0-493E-AF92-4840A82824A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62E-4263-4DEA-AF4B-5ED10678D5D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4AB-8F6E-4C5E-9801-C1E0A1C58AF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7C6B-BA22-43EE-ADA4-4BEBEAB6CD9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281F-FDD7-472E-A3A6-E20D5C00D10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F1A-4236-4B46-8871-0BFA634E466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E32-6DEC-4500-852D-449752BACC3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018-90B2-4153-9380-5A37C9375B4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0468-1313-4B02-A17F-29CC895FA7E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EA78-DA96-4C21-BF80-670D0C1F69E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500-A89E-4AE0-99C7-365F5A63C69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0DC2-974F-4158-888C-03D1057299D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FA0-BB8A-4EBE-9D9A-80F55F9C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044-8BC4-494B-A858-E83AB24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1B7-503F-4777-A40E-B1811DFC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CFF-FC97-4460-8110-33732016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A490-AB26-42F3-B6BF-7C9E5431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349-2A26-4DF7-BCB2-591D0EF3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DCEF-1CD0-49B5-BEFE-7AEC6337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9F1-BA22-4B00-B8CB-C3AA240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779-6E20-4CC9-9A48-FEA622A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2E0-01D7-4D78-9A40-9E9D3550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059-D61C-49BF-B550-D3B5DC2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F99-DE26-454F-84FC-7AB6669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183-4CA0-4B44-8E1A-F5BE20A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C319-6F33-4EE3-8E61-2D118AA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132-1ABB-42DE-9628-0E65E7D1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28D8-5E82-47F9-8323-4B1C4E48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B16-CB92-426F-B712-C3B16955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C4C-69E2-476A-BF50-F6131D5A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AF7-4775-4B25-B733-90C0146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DBB-6FAD-4817-94E1-7AD248B1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C04-AB5E-4F74-B07D-E805461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E7-99C5-44F1-8676-FAC2B954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54F-FE54-4EC1-8A30-95394463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57E-45DD-46BD-B054-3E0279B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DB2F-096C-4E0E-8958-3757F6D48EFA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5895-1B9D-42DA-97A7-733410F78BCE}" type="slidenum">
              <a:rPr b="0" lang="sl-SI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Zajemanje in obdelava procesnih velič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6021360"/>
            <a:ext cx="46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Janez SIPOŠ, </a:t>
            </a:r>
            <a:r>
              <a:rPr b="0" lang="sl-SI" sz="1800" spc="-1" strike="noStrike">
                <a:solidFill>
                  <a:srgbClr val="000000"/>
                </a:solidFill>
                <a:latin typeface="Gill Sans MT"/>
              </a:rPr>
              <a:t>univ. dipl. inž. 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odnaslov 4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98989"/>
                </a:solidFill>
                <a:latin typeface="Tahoma"/>
              </a:rPr>
              <a:t>Elektro in računalniška šola Ptu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sl-SI" sz="3200" spc="-1" strike="noStrike">
                <a:solidFill>
                  <a:srgbClr val="ffc000"/>
                </a:solidFill>
                <a:latin typeface="Tahoma"/>
              </a:rPr>
              <a:t>Digitalni merilni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l-SI" sz="3200" spc="-1" strike="noStrike">
                <a:solidFill>
                  <a:srgbClr val="7f7f7f"/>
                </a:solidFill>
                <a:latin typeface="Tahoma"/>
              </a:rPr>
              <a:t>(elektronski sistem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ultime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Slika 2" descr="M3850D.jpg"/>
          <p:cNvPicPr/>
          <p:nvPr/>
        </p:nvPicPr>
        <p:blipFill>
          <a:blip r:embed="rId1"/>
          <a:stretch/>
        </p:blipFill>
        <p:spPr>
          <a:xfrm>
            <a:off x="571680" y="0"/>
            <a:ext cx="34891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Slika 3" descr="VC250.jpg"/>
          <p:cNvPicPr/>
          <p:nvPr/>
        </p:nvPicPr>
        <p:blipFill>
          <a:blip r:embed="rId2"/>
          <a:stretch/>
        </p:blipFill>
        <p:spPr>
          <a:xfrm>
            <a:off x="4643280" y="0"/>
            <a:ext cx="411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Slika 1" descr="measured57.png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moči – W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 = U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  <a:ea typeface="Tahoma"/>
              </a:rPr>
              <a:t> I [W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  <a:ea typeface="Tahoma"/>
              </a:rPr>
              <a:t>Izmeriti moramo napetost in tok ter izračunati moč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  <a:ea typeface="Tahoma"/>
              </a:rPr>
              <a:t>Vse to lahko naredi elektronika ob primernem senzorju za tok, ki je lahko soupor ali merilni transform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moči – W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82897733ADE7757_fbs"/>
          <p:cNvPicPr/>
          <p:nvPr/>
        </p:nvPicPr>
        <p:blipFill>
          <a:blip r:embed="rId1"/>
          <a:stretch/>
        </p:blipFill>
        <p:spPr>
          <a:xfrm>
            <a:off x="2700360" y="2205000"/>
            <a:ext cx="4968720" cy="2933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332000" y="3141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ok -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11280" y="378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petost - 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42920" y="4797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h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050920" y="3357360"/>
            <a:ext cx="1297080" cy="143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2124000" y="4005000"/>
            <a:ext cx="1224000" cy="93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203640" y="5516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račun 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·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4067280" y="3499920"/>
            <a:ext cx="1728720" cy="2016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508720" y="515772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hodi za digitalni prika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moči – W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Picture 5" descr="Wmeter_dig_1"/>
          <p:cNvPicPr/>
          <p:nvPr/>
        </p:nvPicPr>
        <p:blipFill>
          <a:blip r:embed="rId1"/>
          <a:stretch/>
        </p:blipFill>
        <p:spPr>
          <a:xfrm>
            <a:off x="0" y="2214720"/>
            <a:ext cx="9147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moči – W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5" descr="Wmeter_WU100"/>
          <p:cNvPicPr/>
          <p:nvPr/>
        </p:nvPicPr>
        <p:blipFill>
          <a:blip r:embed="rId1"/>
          <a:stretch/>
        </p:blipFill>
        <p:spPr>
          <a:xfrm>
            <a:off x="1908000" y="2349360"/>
            <a:ext cx="52675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energ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čja natanč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rosta kalibracija (umerjanje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ščita pred nedovoljenimi posegi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odejno odčitovanj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nos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č možnosti za obračunavanje (čas uporabe, vnaprejšnje plačevanje …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energ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Picture 5" descr="mer_porabe_energ_1"/>
          <p:cNvPicPr/>
          <p:nvPr/>
        </p:nvPicPr>
        <p:blipFill>
          <a:blip r:embed="rId1"/>
          <a:stretch/>
        </p:blipFill>
        <p:spPr>
          <a:xfrm>
            <a:off x="971640" y="2058840"/>
            <a:ext cx="655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energ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Picture 5" descr="elekt_stevec_2"/>
          <p:cNvPicPr/>
          <p:nvPr/>
        </p:nvPicPr>
        <p:blipFill>
          <a:blip r:embed="rId1"/>
          <a:stretch/>
        </p:blipFill>
        <p:spPr>
          <a:xfrm>
            <a:off x="611280" y="2349360"/>
            <a:ext cx="291456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skra_stevec"/>
          <p:cNvPicPr/>
          <p:nvPr/>
        </p:nvPicPr>
        <p:blipFill>
          <a:blip r:embed="rId2"/>
          <a:stretch/>
        </p:blipFill>
        <p:spPr>
          <a:xfrm>
            <a:off x="4788000" y="2492280"/>
            <a:ext cx="4057560" cy="30574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1042920" y="602136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hanski številč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651640" y="59500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LCD - prika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Tahoma"/>
              </a:rPr>
              <a:t>Digitalni merilniki energije - komunikacij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rardeči vmesnik (kratkega dosega skozi čelno ploščo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jska komunikacija s kratkim ali dolgim dosegom (mobilno omrežje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atkovni modem preko telefonske linij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nos preko električnega omrežja (kratek ali srednji doseg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jski vmesnik (RS-485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elekt_tri_faz_stevec"/>
          <p:cNvPicPr/>
          <p:nvPr/>
        </p:nvPicPr>
        <p:blipFill>
          <a:blip r:embed="rId1"/>
          <a:stretch/>
        </p:blipFill>
        <p:spPr>
          <a:xfrm>
            <a:off x="5530680" y="2289240"/>
            <a:ext cx="3038760" cy="3571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4643280" y="602136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rifazni elektronski števec energi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 merilniki - multime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igitalni merilniki pretvorijo vhodno veličino (napetost) v digitalno obliko. To opravi analogno – digitalni pretvornik (AD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ikaz merilnika je v numerični obliki. Doseg je določen s številom celih številk na prikazovalniku.     3 ½ prikazovalnik prikaže vrednosti do 1999 (200mV, 2V, 20V, …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13" descr="b0002038"/>
          <p:cNvPicPr/>
          <p:nvPr/>
        </p:nvPicPr>
        <p:blipFill>
          <a:blip r:embed="rId1"/>
          <a:stretch/>
        </p:blipFill>
        <p:spPr>
          <a:xfrm>
            <a:off x="5403960" y="2017800"/>
            <a:ext cx="329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nski merilni siste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Sestavljen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tvorn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Električna veličina (I, U, R, itd)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eelektrične veličine (T, v, p(tlak),itd)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Indikator (kazalni, digitalni, grafični, it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Napajanje (omrež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ikrokontroler ali računaln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ogni elektronski voltmetri</a:t>
            </a:r>
            <a:br>
              <a:rPr sz="4000"/>
            </a:b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enosmern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Atenuator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(1) – vhodno napetost zmanjša, merilna območja (1V, 10V, 100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Enosmerni ojačevalnik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Indikator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(analogni ali digitalni)(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7" descr="eV_m"/>
          <p:cNvPicPr/>
          <p:nvPr/>
        </p:nvPicPr>
        <p:blipFill>
          <a:blip r:embed="rId1"/>
          <a:stretch/>
        </p:blipFill>
        <p:spPr>
          <a:xfrm>
            <a:off x="2435400" y="2022480"/>
            <a:ext cx="5267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ogni elektronski voltmetri</a:t>
            </a:r>
            <a:br>
              <a:rPr sz="4000"/>
            </a:b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enosmerni – mV-met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Zaradi drifta uporabimo izmenični ojačevalni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Atenuator (1) – vhodno napetost zmanjša, merilna območja (1mV, 10mV, 100mV, 1V, 10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etvornik enosmerne v izmenično napetost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zmenični ojačevalnik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etvornik izmenične v enosmerno napetost 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Kazalni indikator (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7" descr="e_v_2"/>
          <p:cNvPicPr/>
          <p:nvPr/>
        </p:nvPicPr>
        <p:blipFill>
          <a:blip r:embed="rId1"/>
          <a:stretch/>
        </p:blipFill>
        <p:spPr>
          <a:xfrm>
            <a:off x="2141640" y="2017800"/>
            <a:ext cx="5854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alogni elektronski voltmetri</a:t>
            </a:r>
            <a:br>
              <a:rPr sz="4000"/>
            </a:b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izmeničn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tenuator (1) – vhodno napetost zmanjša, merilna območja (1V, 3V, 10V, 30V, 100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menični ojačevalnik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tvornik – usmernik 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zalni indikator (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7" descr="e_v_m_izm"/>
          <p:cNvPicPr/>
          <p:nvPr/>
        </p:nvPicPr>
        <p:blipFill>
          <a:blip r:embed="rId1"/>
          <a:stretch/>
        </p:blipFill>
        <p:spPr>
          <a:xfrm>
            <a:off x="2406600" y="2022480"/>
            <a:ext cx="5324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nski V-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Picture 5" descr="AC_Vmeter"/>
          <p:cNvPicPr/>
          <p:nvPr/>
        </p:nvPicPr>
        <p:blipFill>
          <a:blip r:embed="rId1"/>
          <a:stretch/>
        </p:blipFill>
        <p:spPr>
          <a:xfrm>
            <a:off x="250920" y="3284640"/>
            <a:ext cx="7845480" cy="3244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MV20"/>
          <p:cNvPicPr/>
          <p:nvPr/>
        </p:nvPicPr>
        <p:blipFill>
          <a:blip r:embed="rId2"/>
          <a:stretch/>
        </p:blipFill>
        <p:spPr>
          <a:xfrm>
            <a:off x="6084720" y="189000"/>
            <a:ext cx="27752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elektronski voltme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Analogno veličino za atenuatorjem pretvorimo v digitalno obliko (A/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Sistem analogno-digitalne pretvorbe odvisen od namena upora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Numerični prikaz merje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Nadzor z mikrokontrolerj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Napajanje iz omrež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Digitaln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elektronski voltme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Picture 5" descr="HM8112-3_01"/>
          <p:cNvPicPr/>
          <p:nvPr/>
        </p:nvPicPr>
        <p:blipFill>
          <a:blip r:embed="rId1"/>
          <a:stretch/>
        </p:blipFill>
        <p:spPr>
          <a:xfrm>
            <a:off x="324000" y="2205000"/>
            <a:ext cx="554508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M8012_03"/>
          <p:cNvPicPr/>
          <p:nvPr/>
        </p:nvPicPr>
        <p:blipFill>
          <a:blip r:embed="rId2"/>
          <a:stretch/>
        </p:blipFill>
        <p:spPr>
          <a:xfrm>
            <a:off x="5076720" y="4221000"/>
            <a:ext cx="3816360" cy="2506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796000" y="2133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HM8112-3 Ham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411280" y="566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HM8012 Ham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3132000" y="5229000"/>
            <a:ext cx="201636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219640" y="2565360"/>
            <a:ext cx="122400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Lastnosti digitalnih merilnik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ečja toč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dobra ponovljiv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isoka občutljiv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enoumno odčitav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enostavnejša avtomatizacija merjen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enostavna obdelava in podajanje merilnih rezultat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Lastnosti digitalnih merilnik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Ločljivos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določena z največjim številom, ki ga lahko prikaže (3 ½ digit: 1999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ločljivost 1:1999 = 0,0005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Občutljivos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najmanjša napetost, ki jo merilnik zazna. Dobimo jo tako, da zmnožimo najmanjše merilno območje in ločljivost (Umin = 200mV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200mV x 0,0005 = 0,1mV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Resolucij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pove koliko nivojev lahko razločimo na določenem merilnem območju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najmanjša vrednost, ki jo lahko meri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4 bitna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15 nivoj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8 bitna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255 nivoj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12 bitna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4095 nivojev (industrij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16 bitna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65535 nivojev (laboratorij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nalogno-digitalni pretvorn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828800" y="23623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zorč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t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1/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vzor_a_d_1"/>
          <p:cNvPicPr/>
          <p:nvPr/>
        </p:nvPicPr>
        <p:blipFill>
          <a:blip r:embed="rId1"/>
          <a:stretch/>
        </p:blipFill>
        <p:spPr>
          <a:xfrm>
            <a:off x="5105520" y="1905120"/>
            <a:ext cx="2639880" cy="192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828800" y="38862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. Kvantiza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nivoj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A_D_kvantizacija"/>
          <p:cNvPicPr/>
          <p:nvPr/>
        </p:nvPicPr>
        <p:blipFill>
          <a:blip r:embed="rId2"/>
          <a:stretch/>
        </p:blipFill>
        <p:spPr>
          <a:xfrm>
            <a:off x="4952880" y="3886200"/>
            <a:ext cx="29037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82880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. Kodira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33399"/>
                </a:solidFill>
                <a:latin typeface="Tahoma"/>
              </a:rPr>
              <a:t>A/D s postopnim približevanj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3" descr="AD_primerjalnik"/>
          <p:cNvPicPr/>
          <p:nvPr/>
        </p:nvPicPr>
        <p:blipFill>
          <a:blip r:embed="rId1"/>
          <a:stretch/>
        </p:blipFill>
        <p:spPr>
          <a:xfrm>
            <a:off x="1295280" y="1905120"/>
            <a:ext cx="6629400" cy="307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838080" y="5105520"/>
            <a:ext cx="784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 sta vhodna napetost in napetost DAC enaki je meritev konč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očnost odvisna od števila bitov, pretvorba zelo hitra (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), primerna za večkanalne meril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/D z dvojno integracij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Picture 3" descr="AD_dvojna_integracija"/>
          <p:cNvPicPr/>
          <p:nvPr/>
        </p:nvPicPr>
        <p:blipFill>
          <a:blip r:embed="rId1"/>
          <a:stretch/>
        </p:blipFill>
        <p:spPr>
          <a:xfrm>
            <a:off x="4038480" y="1981080"/>
            <a:ext cx="4972320" cy="4765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04920" y="2438280"/>
            <a:ext cx="3733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ntegriramo vhodno napetost U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klopimo na Un in integrator praznimo z referenčno napetostjo. Čas praznjenja je sorazmeren merjeni napetos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tvorba ima veliko točnost, hitrost odvisna od časa integracije (20ms), najpogostejša v DV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A/D s paralelno pretvorb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3" descr="ad_paralelni"/>
          <p:cNvPicPr/>
          <p:nvPr/>
        </p:nvPicPr>
        <p:blipFill>
          <a:blip r:embed="rId1"/>
          <a:stretch/>
        </p:blipFill>
        <p:spPr>
          <a:xfrm>
            <a:off x="4038480" y="1981080"/>
            <a:ext cx="5029200" cy="479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57200" y="2209680"/>
            <a:ext cx="35053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Referenčna napetost razdeljena s pomočjo uporovnega delilnika (kvantizacija). Komparatorji dajejo izhodno napetost do vrednosti Ui = Uref. To vrednost kodiramo in pomnimo do prenosa iz pretvornik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aralelni pretvornik je zelo hiter in ga lahko uporabimo za obdelavo video signalov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Zaradi velikega števila komparatorjev je primeren le za osem bitne pretvornike (255 komparatorjev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ultime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Lahko merij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osmerne in izmenične napetost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osmerne in izmenične tokove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pornosti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mperatur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izkus polprevodnikov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pacitivnost, induktivnos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nos podatkov na računalnik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lika vhodna upornost (10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7" descr="F_multimeter"/>
          <p:cNvPicPr/>
          <p:nvPr/>
        </p:nvPicPr>
        <p:blipFill>
          <a:blip r:embed="rId1"/>
          <a:stretch/>
        </p:blipFill>
        <p:spPr>
          <a:xfrm>
            <a:off x="6122880" y="2017800"/>
            <a:ext cx="185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7:01:58Z</dcterms:created>
  <dc:creator>JSipoš</dc:creator>
  <dc:description/>
  <dc:language>en-US</dc:language>
  <cp:lastModifiedBy>Klarisa</cp:lastModifiedBy>
  <dcterms:modified xsi:type="dcterms:W3CDTF">2012-09-24T18:38:02Z</dcterms:modified>
  <cp:revision>23</cp:revision>
  <dc:subject/>
  <dc:title>Meritve v mehatroniki</dc:title>
</cp:coreProperties>
</file>