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gif" ContentType="image/gif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2D42-6288-4FFF-A36A-72A7A89E1AA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FDE-7A02-41B1-BACE-0FAD4F31A46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3B82-AFBF-45F9-B853-EB96630D14D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936F-5C4D-4311-8168-611572293ED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98D-6B29-4661-AE0F-C91820C5E42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0D4-7A96-4CD7-872F-4C0453C81D8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4E12-3B32-4D14-AE99-7CD43C884AD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A99E-6BB0-41B7-A606-17EA8E9DF25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DAA9-C01C-4219-926A-648B6ECE00B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475-07DB-40C7-936D-319B010AE1C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8851-00D0-4CE3-8D28-069DA998283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A887-BC5E-4DDB-A00B-82DBD97D93A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F90-6605-4196-9CDB-68A9714AE21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91BB-B8DB-4AC2-8E58-DA4D22B30B9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C569-DEEC-49A9-98DF-B34EC39F4C7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0C4-679E-45D4-B44B-AF2EA6375F1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6AB-58A0-4CF6-B093-ECBFCA0B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1D4-1DB0-446D-BA51-491BB860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133-2276-4374-865A-0300C293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005-FDCE-4FC0-8828-42ECFAA1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EB90-44EE-48CC-AADA-FCB8472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26FF-DCA8-4B31-BF66-3A811AF4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A80C-DD65-4417-AB06-D0E68C6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FDF1-5713-46D5-B229-7E0D37A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165F-A450-4408-AD0C-3435A46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A891-AA78-42EF-8BA0-212A0FC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295C-778D-4126-94A3-79C179BE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8C9-EF0D-41C3-82FD-B06452A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9F69-B439-4703-A701-F73A0D0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D780-5E53-4866-904A-EF19869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F1D-2524-4E2F-BAC5-CE54D0F5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BB8E-0212-42DA-847B-16C67510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438B-066F-4AC5-A989-05427314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2B6-F8C3-4661-BB25-2F9845E3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921-EBA2-4DF1-9AB5-889E6EAE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C8F-26C9-46FF-BAEC-91345C80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D54-882C-4A39-B396-AC10303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739-BD32-468B-BFBF-1DC475A4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8C3-802D-477E-B081-542EC4B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B15-6AC1-4D59-88F2-F6EA360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66F-B4CB-4C5B-A284-0D9AB9F8D6C9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7C08-1780-459C-B21D-3C2FF0D8FDAE}" type="slidenum">
              <a:rPr b="0" lang="sl-SI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scilloscope" TargetMode="External"/><Relationship Id="rId2" Type="http://schemas.openxmlformats.org/officeDocument/2006/relationships/hyperlink" Target="http://www.belmet.si/index.php" TargetMode="External"/><Relationship Id="rId3" Type="http://schemas.openxmlformats.org/officeDocument/2006/relationships/hyperlink" Target="http://www.doctronics.co.uk/scope.ht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spectrum-analyzer.info/" TargetMode="External"/><Relationship Id="rId2" Type="http://schemas.openxmlformats.org/officeDocument/2006/relationships/hyperlink" Target="http://www.belmet.si/index.php" TargetMode="External"/><Relationship Id="rId3" Type="http://schemas.openxmlformats.org/officeDocument/2006/relationships/hyperlink" Target="http://en.wikipedia.org/wiki/Spectrum_analyzer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Zajemanje in obdelava procesnih velič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6021360"/>
            <a:ext cx="46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Janez SIPOŠ, </a:t>
            </a:r>
            <a:r>
              <a:rPr b="0" lang="sl-SI" sz="1800" spc="-1" strike="noStrike">
                <a:solidFill>
                  <a:srgbClr val="000000"/>
                </a:solidFill>
                <a:latin typeface="Gill Sans MT"/>
              </a:rPr>
              <a:t>univ. dipl. inž. 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odnaslov 4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98989"/>
                </a:solidFill>
                <a:latin typeface="Tahoma"/>
              </a:rPr>
              <a:t>Elektro in računalniška šola Ptu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sl-SI" sz="3200" spc="-1" strike="noStrike">
                <a:solidFill>
                  <a:srgbClr val="ffc000"/>
                </a:solidFill>
                <a:latin typeface="Tahoma"/>
              </a:rPr>
              <a:t>Oscilosk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000"/>
                </a:solidFill>
                <a:latin typeface="Tahoma"/>
              </a:rPr>
              <a:t>        </a:t>
            </a:r>
            <a:r>
              <a:rPr b="0" lang="sl-SI" sz="3200" spc="-1" strike="noStrike">
                <a:solidFill>
                  <a:srgbClr val="ffc000"/>
                </a:solidFill>
                <a:latin typeface="Tahoma"/>
              </a:rPr>
              <a:t>Spektralni analiz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Vertikalni si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3" descr="osc_10"/>
          <p:cNvPicPr/>
          <p:nvPr/>
        </p:nvPicPr>
        <p:blipFill>
          <a:blip r:embed="rId1"/>
          <a:stretch/>
        </p:blipFill>
        <p:spPr>
          <a:xfrm>
            <a:off x="304920" y="2209680"/>
            <a:ext cx="5635440" cy="4173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6324480" y="358128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Gumb za spreminjanje ojačanja y –ojačevalca. Če je v položaju CAL veljajo vrednosti na preklopni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2590920" y="3809880"/>
            <a:ext cx="350496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Blok shema oscilosk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3" descr="blok_shema_oscil"/>
          <p:cNvPicPr/>
          <p:nvPr/>
        </p:nvPicPr>
        <p:blipFill>
          <a:blip r:embed="rId1"/>
          <a:stretch/>
        </p:blipFill>
        <p:spPr>
          <a:xfrm>
            <a:off x="0" y="2133720"/>
            <a:ext cx="8991720" cy="3473280"/>
          </a:xfrm>
          <a:prstGeom prst="rect">
            <a:avLst/>
          </a:prstGeom>
          <a:ln w="0">
            <a:noFill/>
          </a:ln>
        </p:spPr>
      </p:pic>
      <p:sp>
        <p:nvSpPr>
          <p:cNvPr id="142" name="Oval 4"/>
          <p:cNvSpPr/>
          <p:nvPr/>
        </p:nvSpPr>
        <p:spPr>
          <a:xfrm>
            <a:off x="1332000" y="4221000"/>
            <a:ext cx="2187360" cy="1698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708360" y="5734080"/>
            <a:ext cx="31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ožena časovna ba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6"/>
          <p:cNvSpPr/>
          <p:nvPr/>
        </p:nvSpPr>
        <p:spPr>
          <a:xfrm flipH="1" flipV="1">
            <a:off x="2556000" y="4941360"/>
            <a:ext cx="1224000" cy="100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Horizontalni si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Osnova je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prožena časovna baza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, ki jo sestavlja generator žagaste napetosti in prožilnik (trige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Žagasta napetost odklanja elektronski žarek od leve proti desni strani in tako izrisuje merjeni sig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išja je frekvenca žagaste napetosti - pregledneje izriše višje frekv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erioda žagaste napetosti se generira šele po tem, ko opazovana napetost izpolni določene pogo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rožena časovna baz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3" descr="osc_09"/>
          <p:cNvPicPr/>
          <p:nvPr/>
        </p:nvPicPr>
        <p:blipFill>
          <a:blip r:embed="rId1"/>
          <a:stretch/>
        </p:blipFill>
        <p:spPr>
          <a:xfrm>
            <a:off x="971640" y="2133720"/>
            <a:ext cx="2276280" cy="2352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971640" y="4724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asovna ba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8" descr="zag_nap_3"/>
          <p:cNvPicPr/>
          <p:nvPr/>
        </p:nvPicPr>
        <p:blipFill>
          <a:blip r:embed="rId2"/>
          <a:stretch/>
        </p:blipFill>
        <p:spPr>
          <a:xfrm>
            <a:off x="4284720" y="2060640"/>
            <a:ext cx="4486320" cy="2933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4356000" y="5157720"/>
            <a:ext cx="36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čas preleta žar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2-čas povratka žar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zatemnjeneg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risanje_osciloskopa"/>
          <p:cNvPicPr/>
          <p:nvPr/>
        </p:nvPicPr>
        <p:blipFill>
          <a:blip r:embed="rId1"/>
          <a:stretch/>
        </p:blipFill>
        <p:spPr>
          <a:xfrm>
            <a:off x="1116000" y="189000"/>
            <a:ext cx="7145280" cy="5646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0920" y="2565360"/>
            <a:ext cx="403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lika prikazuje risa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arka po zaslonu p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inusni vhodni napetosti U</a:t>
            </a:r>
            <a:r>
              <a:rPr b="0" lang="sl-SI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n žagasti napetosti U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ožen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Picture 5" descr="prozenje_oscil"/>
          <p:cNvPicPr/>
          <p:nvPr/>
        </p:nvPicPr>
        <p:blipFill>
          <a:blip r:embed="rId1"/>
          <a:stretch/>
        </p:blipFill>
        <p:spPr>
          <a:xfrm>
            <a:off x="3470400" y="260280"/>
            <a:ext cx="5673600" cy="6166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osc_31"/>
          <p:cNvPicPr/>
          <p:nvPr/>
        </p:nvPicPr>
        <p:blipFill>
          <a:blip r:embed="rId2"/>
          <a:stretch/>
        </p:blipFill>
        <p:spPr>
          <a:xfrm>
            <a:off x="1619280" y="1844640"/>
            <a:ext cx="1819080" cy="329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osc_32"/>
          <p:cNvPicPr/>
          <p:nvPr/>
        </p:nvPicPr>
        <p:blipFill>
          <a:blip r:embed="rId3"/>
          <a:stretch/>
        </p:blipFill>
        <p:spPr>
          <a:xfrm>
            <a:off x="0" y="5105520"/>
            <a:ext cx="158112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Line 8"/>
          <p:cNvSpPr/>
          <p:nvPr/>
        </p:nvSpPr>
        <p:spPr>
          <a:xfrm flipV="1">
            <a:off x="3059280" y="1341000"/>
            <a:ext cx="2017440" cy="201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332000" y="980640"/>
            <a:ext cx="5040360" cy="554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vko_osciloskop_blok"/>
          <p:cNvPicPr/>
          <p:nvPr/>
        </p:nvPicPr>
        <p:blipFill>
          <a:blip r:embed="rId1"/>
          <a:stretch/>
        </p:blipFill>
        <p:spPr>
          <a:xfrm>
            <a:off x="1187280" y="189000"/>
            <a:ext cx="763272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elovanje oscilosk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3" descr="osc1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o-scope1"/>
          <p:cNvPicPr/>
          <p:nvPr/>
        </p:nvPicPr>
        <p:blipFill>
          <a:blip r:embed="rId1"/>
          <a:stretch/>
        </p:blipFill>
        <p:spPr>
          <a:xfrm>
            <a:off x="380880" y="990720"/>
            <a:ext cx="8412120" cy="5508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2057400" y="152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elovanje oscilosko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Slika 1" descr="Osc_Gen.jpg"/>
          <p:cNvPicPr/>
          <p:nvPr/>
        </p:nvPicPr>
        <p:blipFill>
          <a:blip r:embed="rId1"/>
          <a:stretch/>
        </p:blipFill>
        <p:spPr>
          <a:xfrm>
            <a:off x="487440" y="0"/>
            <a:ext cx="81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scilosk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Slika 2" descr="pult_135.gif"/>
          <p:cNvPicPr/>
          <p:nvPr/>
        </p:nvPicPr>
        <p:blipFill>
          <a:blip r:embed="rId1"/>
          <a:stretch/>
        </p:blipFill>
        <p:spPr>
          <a:xfrm>
            <a:off x="1357200" y="182088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lika 1" descr="HM407.gif"/>
          <p:cNvPicPr/>
          <p:nvPr/>
        </p:nvPicPr>
        <p:blipFill>
          <a:blip r:embed="rId1"/>
          <a:stretch/>
        </p:blipFill>
        <p:spPr>
          <a:xfrm>
            <a:off x="571680" y="1300320"/>
            <a:ext cx="80010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oscilosk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hodno napetost ojač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ato pretvori v digitalno obliko (A/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igitalno obliko spravi v spo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ikaže na ekra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7" descr="digi_osci"/>
          <p:cNvPicPr/>
          <p:nvPr/>
        </p:nvPicPr>
        <p:blipFill>
          <a:blip r:embed="rId1"/>
          <a:stretch/>
        </p:blipFill>
        <p:spPr>
          <a:xfrm>
            <a:off x="5145120" y="2843280"/>
            <a:ext cx="38098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Digitalni osciloskop – blok sh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Picture 5" descr="dig_oscil"/>
          <p:cNvPicPr/>
          <p:nvPr/>
        </p:nvPicPr>
        <p:blipFill>
          <a:blip r:embed="rId1"/>
          <a:stretch/>
        </p:blipFill>
        <p:spPr>
          <a:xfrm>
            <a:off x="900000" y="1873080"/>
            <a:ext cx="784872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oscilosk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5" descr="TDS1001_2"/>
          <p:cNvPicPr/>
          <p:nvPr/>
        </p:nvPicPr>
        <p:blipFill>
          <a:blip r:embed="rId1"/>
          <a:stretch/>
        </p:blipFill>
        <p:spPr>
          <a:xfrm>
            <a:off x="826920" y="2349360"/>
            <a:ext cx="705816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lika 1" descr="oscilloscope-pkt-1195-scheme.jpg"/>
          <p:cNvPicPr/>
          <p:nvPr/>
        </p:nvPicPr>
        <p:blipFill>
          <a:blip r:embed="rId1"/>
          <a:stretch/>
        </p:blipFill>
        <p:spPr>
          <a:xfrm>
            <a:off x="1397160" y="660240"/>
            <a:ext cx="634968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lika 1" descr="oscilloscope-pkt-1195-1205.jpg"/>
          <p:cNvPicPr/>
          <p:nvPr/>
        </p:nvPicPr>
        <p:blipFill>
          <a:blip r:embed="rId1"/>
          <a:stretch/>
        </p:blipFill>
        <p:spPr>
          <a:xfrm>
            <a:off x="4214880" y="0"/>
            <a:ext cx="4762440" cy="3933720"/>
          </a:xfrm>
          <a:prstGeom prst="rect">
            <a:avLst/>
          </a:prstGeom>
          <a:ln w="0">
            <a:noFill/>
          </a:ln>
        </p:spPr>
      </p:pic>
      <p:pic>
        <p:nvPicPr>
          <p:cNvPr id="176" name="Slika 2" descr="operating-principle-oscilloscope.jpg"/>
          <p:cNvPicPr/>
          <p:nvPr/>
        </p:nvPicPr>
        <p:blipFill>
          <a:blip r:embed="rId2"/>
          <a:stretch/>
        </p:blipFill>
        <p:spPr>
          <a:xfrm>
            <a:off x="0" y="2666880"/>
            <a:ext cx="4762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333399"/>
                </a:solidFill>
                <a:latin typeface="Tahoma"/>
              </a:rPr>
              <a:t>DSO (Digital Storage Oscilloscop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857160" y="1857240"/>
            <a:ext cx="7786800" cy="4786560"/>
            <a:chOff x="857160" y="1857240"/>
            <a:chExt cx="7786800" cy="4786560"/>
          </a:xfrm>
        </p:grpSpPr>
        <p:pic>
          <p:nvPicPr>
            <p:cNvPr id="179" name="Picture 3" descr="Slika 095"/>
            <p:cNvPicPr/>
            <p:nvPr/>
          </p:nvPicPr>
          <p:blipFill>
            <a:blip r:embed="rId1"/>
            <a:stretch/>
          </p:blipFill>
          <p:spPr>
            <a:xfrm>
              <a:off x="857160" y="1857240"/>
              <a:ext cx="7786800" cy="4786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80" name="AutoShape 4"/>
            <p:cNvCxnSpPr/>
            <p:nvPr/>
          </p:nvCxnSpPr>
          <p:spPr>
            <a:xfrm>
              <a:off x="4365360" y="2354040"/>
              <a:ext cx="1410480" cy="70272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181" name="Rectangle 5"/>
            <p:cNvSpPr/>
            <p:nvPr/>
          </p:nvSpPr>
          <p:spPr>
            <a:xfrm>
              <a:off x="3328920" y="2038320"/>
              <a:ext cx="2314440" cy="31536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Nastavitev časovne baze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575080" y="2827080"/>
              <a:ext cx="3200040" cy="43560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Nastavitev amplitudnega pogled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3" name="AutoShape 7"/>
            <p:cNvCxnSpPr/>
            <p:nvPr/>
          </p:nvCxnSpPr>
          <p:spPr>
            <a:xfrm>
              <a:off x="4233960" y="3262680"/>
              <a:ext cx="1541520" cy="76392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184" name="AutoShape 8"/>
            <p:cNvCxnSpPr/>
            <p:nvPr/>
          </p:nvCxnSpPr>
          <p:spPr>
            <a:xfrm>
              <a:off x="4233960" y="3262680"/>
              <a:ext cx="2449800" cy="76392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185" name="Rectangle 9"/>
            <p:cNvSpPr/>
            <p:nvPr/>
          </p:nvSpPr>
          <p:spPr>
            <a:xfrm>
              <a:off x="3486240" y="5455440"/>
              <a:ext cx="1306440" cy="31536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Izbira kanala 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86" name="AutoShape 10"/>
            <p:cNvCxnSpPr/>
            <p:nvPr/>
          </p:nvCxnSpPr>
          <p:spPr>
            <a:xfrm flipV="1">
              <a:off x="4191480" y="4643640"/>
              <a:ext cx="1702440" cy="81216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187" name="AutoShape 11"/>
            <p:cNvCxnSpPr/>
            <p:nvPr/>
          </p:nvCxnSpPr>
          <p:spPr>
            <a:xfrm flipV="1">
              <a:off x="4191480" y="4716360"/>
              <a:ext cx="2492280" cy="73944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188" name="Rectangle 12"/>
            <p:cNvSpPr/>
            <p:nvPr/>
          </p:nvSpPr>
          <p:spPr>
            <a:xfrm>
              <a:off x="6368400" y="6221520"/>
              <a:ext cx="1917000" cy="31536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Nastavitev prožilnik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7324200" y="4457160"/>
              <a:ext cx="896400" cy="712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0" name="AutoShape 14"/>
            <p:cNvCxnSpPr/>
            <p:nvPr/>
          </p:nvCxnSpPr>
          <p:spPr>
            <a:xfrm flipV="1">
              <a:off x="7323840" y="5223600"/>
              <a:ext cx="413640" cy="99756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191" name="Oval 15"/>
            <p:cNvSpPr/>
            <p:nvPr/>
          </p:nvSpPr>
          <p:spPr>
            <a:xfrm>
              <a:off x="1845360" y="5457960"/>
              <a:ext cx="653400" cy="601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6"/>
            <p:cNvSpPr/>
            <p:nvPr/>
          </p:nvSpPr>
          <p:spPr>
            <a:xfrm>
              <a:off x="2498760" y="6221520"/>
              <a:ext cx="1581120" cy="31536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Tipka za vklop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3" name="AutoShape 17"/>
            <p:cNvCxnSpPr/>
            <p:nvPr/>
          </p:nvCxnSpPr>
          <p:spPr>
            <a:xfrm flipH="1" flipV="1">
              <a:off x="2498040" y="5881680"/>
              <a:ext cx="726120" cy="28512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194" name="Oval 18"/>
            <p:cNvSpPr/>
            <p:nvPr/>
          </p:nvSpPr>
          <p:spPr>
            <a:xfrm>
              <a:off x="7144920" y="2947320"/>
              <a:ext cx="653040" cy="600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6368400" y="2157840"/>
              <a:ext cx="1581480" cy="315360"/>
            </a:xfrm>
            <a:prstGeom prst="rect">
              <a:avLst/>
            </a:prstGeom>
            <a:solidFill>
              <a:srgbClr val="4f81bd">
                <a:alpha val="29000"/>
              </a:srgbClr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dbe5f1"/>
                  </a:solidFill>
                  <a:latin typeface="Calibri"/>
                </a:rPr>
                <a:t>Nadzorna tipka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96" name="AutoShape 20"/>
            <p:cNvCxnSpPr/>
            <p:nvPr/>
          </p:nvCxnSpPr>
          <p:spPr>
            <a:xfrm>
              <a:off x="7144560" y="2473200"/>
              <a:ext cx="240840" cy="474480"/>
            </a:xfrm>
            <a:prstGeom prst="straightConnector1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rilne sonde </a:t>
            </a: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(pribor osciloskopa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rilna sonda je linija, preko katere pripeljemo signal na osciloskop. Preprečuje induktivne in kapacitivne sklope in dostop motilnih signalo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estavljena je iz  koaksiolnega vodnika,  BNC priključka in merilne konice s krokodilčkom za ozemljitev oziroma ma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Uporablja se za merjenje majhnih enosmernih in izmeničnih napetosti nizkih in visokih frekven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7" descr="sonda_1"/>
          <p:cNvPicPr/>
          <p:nvPr/>
        </p:nvPicPr>
        <p:blipFill>
          <a:blip r:embed="rId1"/>
          <a:stretch/>
        </p:blipFill>
        <p:spPr>
          <a:xfrm>
            <a:off x="5292720" y="2205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Pasivna sonda z delilnik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merjenje višjih napetosti uporabimo sondo, ki ima vgrajeni delilnik napetosti (10 : 1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merjenje izmeničnih napetosti mora biti delilnik napetosti kompenziran s kondenzatorj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Vhodna upornost osciloskopa je sedaj 10M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z vzporedno kapacitivnostjo Cvh (okrog 12p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0" descr="sonda"/>
          <p:cNvPicPr/>
          <p:nvPr/>
        </p:nvPicPr>
        <p:blipFill>
          <a:blip r:embed="rId1"/>
          <a:stretch/>
        </p:blipFill>
        <p:spPr>
          <a:xfrm>
            <a:off x="1187280" y="1916280"/>
            <a:ext cx="7345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ktivna so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Aktivna sonda ima vgrajen tranzistorski ojačevalnik, s čimer se poveča občutljivost osciloskopa in zaradi MOSFET tranzistorja  se poveča tudi vhodna uporn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7" descr="tastkopfe_1"/>
          <p:cNvPicPr/>
          <p:nvPr/>
        </p:nvPicPr>
        <p:blipFill>
          <a:blip r:embed="rId1"/>
          <a:stretch/>
        </p:blipFill>
        <p:spPr>
          <a:xfrm>
            <a:off x="5202360" y="2017800"/>
            <a:ext cx="369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nski oscilosk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jbolj uporaben merilni instrument za prikaz oblike napeto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mogoča opazovanje trenutnih vrednosti izmeničnih veličin v odvisnosti od časa ali od druge spremenljive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dlikuje ga velika vhodna upornost, velika občutljivost, visoka zgornja frekvenčna meja, istočasen prikaz dveh ali več vhodnih velič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pominski osciloskopi hranijo sliko ali jo prenesejo na računalnik za nadaljno obdela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Lahko ga uporabimo tudi za merjenje frekvence, faznega kota, moči, impendance it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Tokovne klešč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elujejo na principu induktivnega sklo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e obremenjujejo vira in ni potrebno prekiniti vodnik za merite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7" descr="tokovna_sonda"/>
          <p:cNvPicPr/>
          <p:nvPr/>
        </p:nvPicPr>
        <p:blipFill>
          <a:blip r:embed="rId1"/>
          <a:stretch/>
        </p:blipFill>
        <p:spPr>
          <a:xfrm>
            <a:off x="900000" y="1989000"/>
            <a:ext cx="6208920" cy="212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miniclamp_1"/>
          <p:cNvPicPr/>
          <p:nvPr/>
        </p:nvPicPr>
        <p:blipFill>
          <a:blip r:embed="rId2"/>
          <a:stretch/>
        </p:blipFill>
        <p:spPr>
          <a:xfrm>
            <a:off x="7380360" y="5084640"/>
            <a:ext cx="1563480" cy="158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clamp_1"/>
          <p:cNvPicPr/>
          <p:nvPr/>
        </p:nvPicPr>
        <p:blipFill>
          <a:blip r:embed="rId3"/>
          <a:stretch/>
        </p:blipFill>
        <p:spPr>
          <a:xfrm>
            <a:off x="6300720" y="189000"/>
            <a:ext cx="270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scilosk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i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en.wikipedia.org/wiki/Oscillo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belmet.si/index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www.doctronics.co.uk/scope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pektralni analiz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Picture 5" descr="hm5010_11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pektralni analiz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Tahoma"/>
              </a:rPr>
              <a:t>Osciloskop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prikazuje napetost v odvisnosti od časa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U=f(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Tahoma"/>
              </a:rPr>
              <a:t>Spektralni analizator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prikazuje napetost v odvisnosti od frekvence 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U=f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7" descr="spek_ana_oscil"/>
          <p:cNvPicPr/>
          <p:nvPr/>
        </p:nvPicPr>
        <p:blipFill>
          <a:blip r:embed="rId1"/>
          <a:stretch/>
        </p:blipFill>
        <p:spPr>
          <a:xfrm>
            <a:off x="5145120" y="2392200"/>
            <a:ext cx="38098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Fourierjeva vr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Funkcijo y=a za interval 0&lt;x&lt;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(pravokotni signal s periodo 2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in opazujemo samo prvo pozitivno polperiodo) lahko razvijemo v Fourierjevo vrs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Y=4a/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[sinx+(sin3x)/3+(sin5x)/5+ (sin7x)/7+(sin9x)/9+(sin11x)/11+...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spec_anal"/>
          <p:cNvPicPr/>
          <p:nvPr/>
        </p:nvPicPr>
        <p:blipFill>
          <a:blip r:embed="rId1"/>
          <a:stretch/>
        </p:blipFill>
        <p:spPr>
          <a:xfrm>
            <a:off x="250920" y="1484280"/>
            <a:ext cx="8713800" cy="4997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684360" y="1159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elovanje spektralnega analizator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7929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pektralni analiz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6" descr="spec_anali_1"/>
          <p:cNvPicPr/>
          <p:nvPr/>
        </p:nvPicPr>
        <p:blipFill>
          <a:blip r:embed="rId1"/>
          <a:stretch/>
        </p:blipFill>
        <p:spPr>
          <a:xfrm>
            <a:off x="179280" y="1557360"/>
            <a:ext cx="8829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pektralni analiz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Picture 5" descr="spec_anal_4"/>
          <p:cNvPicPr/>
          <p:nvPr/>
        </p:nvPicPr>
        <p:blipFill>
          <a:blip r:embed="rId1"/>
          <a:stretch/>
        </p:blipFill>
        <p:spPr>
          <a:xfrm>
            <a:off x="179280" y="2060640"/>
            <a:ext cx="3414960" cy="3868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spec_anal_3"/>
          <p:cNvPicPr/>
          <p:nvPr/>
        </p:nvPicPr>
        <p:blipFill>
          <a:blip r:embed="rId2"/>
          <a:stretch/>
        </p:blipFill>
        <p:spPr>
          <a:xfrm>
            <a:off x="6516720" y="189000"/>
            <a:ext cx="2381040" cy="354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g2-9"/>
          <p:cNvPicPr/>
          <p:nvPr/>
        </p:nvPicPr>
        <p:blipFill>
          <a:blip r:embed="rId3"/>
          <a:stretch/>
        </p:blipFill>
        <p:spPr>
          <a:xfrm>
            <a:off x="3492360" y="1413000"/>
            <a:ext cx="2803680" cy="2047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img1-3"/>
          <p:cNvPicPr/>
          <p:nvPr/>
        </p:nvPicPr>
        <p:blipFill>
          <a:blip r:embed="rId4"/>
          <a:stretch/>
        </p:blipFill>
        <p:spPr>
          <a:xfrm>
            <a:off x="4211640" y="3573360"/>
            <a:ext cx="4381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pektralni analiz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i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pectrum-analyzer.info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belmet.si/index.ph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://en.wikipedia.org/wiki/Spectrum_analyz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Blok shema oscilosk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3" descr="blok_shema_oscil"/>
          <p:cNvPicPr/>
          <p:nvPr/>
        </p:nvPicPr>
        <p:blipFill>
          <a:blip r:embed="rId1"/>
          <a:stretch/>
        </p:blipFill>
        <p:spPr>
          <a:xfrm>
            <a:off x="0" y="2133720"/>
            <a:ext cx="8991720" cy="347328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5791320" y="2895480"/>
            <a:ext cx="3200400" cy="1447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29000" y="5715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ikazovalnik slike – Braunova elektronk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6"/>
          <p:cNvSpPr/>
          <p:nvPr/>
        </p:nvSpPr>
        <p:spPr>
          <a:xfrm flipV="1">
            <a:off x="5943600" y="3733560"/>
            <a:ext cx="1981080" cy="205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Braunova elektron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srednji element osciloskopa, 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mogoč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idobivanje elektronskega snopa elektronov iz elektronskega to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preminjanje smeri poti elektronskega žarka z električnim poljem na odklonskih plošč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tvorbo kinetične energije elektronov na zaslonu v svetlobno energi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brau_elekt_princip"/>
          <p:cNvPicPr/>
          <p:nvPr/>
        </p:nvPicPr>
        <p:blipFill>
          <a:blip r:embed="rId1"/>
          <a:stretch/>
        </p:blipFill>
        <p:spPr>
          <a:xfrm>
            <a:off x="5145120" y="250344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Braunova elektronk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3" descr="odklon_Brau_ele"/>
          <p:cNvPicPr/>
          <p:nvPr/>
        </p:nvPicPr>
        <p:blipFill>
          <a:blip r:embed="rId1"/>
          <a:stretch/>
        </p:blipFill>
        <p:spPr>
          <a:xfrm>
            <a:off x="181080" y="2000160"/>
            <a:ext cx="8781840" cy="2857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3520" y="502128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Vroča katoda daje elektrone, ki jih anoda pospeši proti zaslonu. V električnem polju med odklonskima ploščama se elektroni odklonijo v odvisnosti od velikosti električnega polja. Enačba za velikost odklona y nam podaja od česa je odvisna velikost odklona žarka (u</a:t>
            </a:r>
            <a:r>
              <a:rPr b="0" lang="sl-SI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= u</a:t>
            </a:r>
            <a:r>
              <a:rPr b="0" lang="sl-SI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77208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6553080" y="304920"/>
                <a:ext cx="21337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aslon oscilosk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629400" y="2057400"/>
            <a:ext cx="23623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sciloskop prikazuje diagram, ki predstavlja napetost v odvisnosti od časa U=f(t) (časovni diagram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gosta velikost zaslona je 8x10 kvadratkov, ki se imenujejo s tujko “Division” – delite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osc_02"/>
          <p:cNvPicPr/>
          <p:nvPr/>
        </p:nvPicPr>
        <p:blipFill>
          <a:blip r:embed="rId1"/>
          <a:stretch/>
        </p:blipFill>
        <p:spPr>
          <a:xfrm>
            <a:off x="228600" y="2133720"/>
            <a:ext cx="61722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Blok shema osciloskop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3" descr="blok_shema_oscil"/>
          <p:cNvPicPr/>
          <p:nvPr/>
        </p:nvPicPr>
        <p:blipFill>
          <a:blip r:embed="rId1"/>
          <a:stretch/>
        </p:blipFill>
        <p:spPr>
          <a:xfrm>
            <a:off x="0" y="2133720"/>
            <a:ext cx="8991720" cy="347328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152280" y="2666880"/>
            <a:ext cx="4114800" cy="1828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3520" y="5715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Vertikalni sistem dvokanalnega osciloskop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7"/>
          <p:cNvSpPr/>
          <p:nvPr/>
        </p:nvSpPr>
        <p:spPr>
          <a:xfrm flipH="1" flipV="1">
            <a:off x="2286000" y="3505320"/>
            <a:ext cx="533520" cy="2209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Vertikalni si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hoda Y1 in Y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C/DC – pred vhod ojačevalnika vežemo kondenzator in tako preprečimo vhod enosmerni komponenti – dobimo izmenični ojačevalnik (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tenuator zmanjša opazovano napetost na ustrezni nivo (izbiramo koeficient k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z enoto V/d – volt na dele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ledi enosmerni ojačevalnik, ki mu lahko dodajamo enosmerno napetost in tako premikamo sliko gor in dol po zasl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LT/CHOP – elektronski preklopnik, ki izbira kanal ali preklaplja in tako prikazuje sliki obeh kanal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5:43:34Z</dcterms:created>
  <dc:creator>JSipoš</dc:creator>
  <dc:description/>
  <dc:language>en-US</dc:language>
  <cp:lastModifiedBy>Klarisa</cp:lastModifiedBy>
  <dcterms:modified xsi:type="dcterms:W3CDTF">2012-09-24T18:41:39Z</dcterms:modified>
  <cp:revision>31</cp:revision>
  <dc:subject/>
  <dc:title>Meritve v mehatroniki</dc:title>
</cp:coreProperties>
</file>