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EA0E-BEC0-4A6F-9FFC-9B361A74ED8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982-DE43-485F-A3F0-00F3B1DDCA3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92B-CE89-403D-8005-DC4C680BB64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F873-49EF-4F87-9F85-C6DED191992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5214-9AFC-471B-9D14-2E4CF1C9C3A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3FF4-DCB2-42F4-AFA8-0E7DEEF84F0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1ED-4192-4562-BBCA-0F90D087C14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7A49-B578-49E8-BC56-3D8C09C24D1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F503-D55C-4829-AECA-7CCAA0693A6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644-614E-4F16-98E6-55C1AF8CE55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347D-BA4A-422A-B85C-02D324108C5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B0C0-0063-48FB-B2C5-FD03E215337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64CB-37E6-4C6F-9375-28D28DA9F39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815-02C5-4DF5-B935-5446DDEF8E6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3192-124F-46FE-832B-DBFD1FCA3E1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C005-EDDC-4B32-A930-CB1471746D4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61CD-982A-4132-9760-CFCE1EE9FA6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9CA-885C-4428-AD84-F0B911B1998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AAA3-3665-47F7-BD4F-7CFD0DC2C92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E3CF-E4BB-491F-AC30-155F869EEB8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31F7-6161-4A9F-8360-DEF23B4C3E7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F86A-F82D-4E08-85F4-D67E552E24E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54C-EF38-4048-850B-95837D31194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80A-323D-44A0-9658-1CD7E43F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EF1-5EAE-477E-9EE6-5C058BC4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BCA-22A0-45AF-A0E1-8ACA09FF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53B-9421-46CC-988C-15671533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8887-D2C5-4B7B-9629-88E8C635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BF2-8E90-49E0-9169-112BF63A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FC9-2636-4163-9320-5F970B6E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6A4-FF29-4A07-8D68-79BE83E9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546A-2C90-41B3-977F-69632017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DD7-0012-42D2-AFF0-B84BD52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F27A-14FC-4A44-911B-57DAC41E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F2C-6EF7-4037-B2E0-9CE1C78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BE1E-61B8-4AA2-B0D8-16BD20F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4222-8347-4442-B54C-B5FD0AF1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D31-D7DD-418B-87E4-12F681C0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BD18-F952-4E1C-B3A7-74BB712B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4385-0CCB-4BF8-BDD4-7D0496C2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326-2A67-4297-8D41-1096C46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622-A01B-48B9-8CE3-E94B73F6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5BC-E8C6-49FD-805B-936B2C71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B65-F765-4891-A2C7-98C3B034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15A-C01A-4C46-9BAD-369999CA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7F1-6FF1-4BF2-81F4-B8711CD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D0B-D98B-40D8-8D32-934307A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1C0D-ADC1-4A0E-BD57-A51CB95B05BE}" type="slidenum">
              <a:rPr b="0" lang="sl-SI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D932-9F05-458D-9BCE-72161C41FBEA}" type="slidenum">
              <a:rPr b="0" lang="sl-SI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000" spc="-1" strike="noStrike">
                <a:solidFill>
                  <a:srgbClr val="006633"/>
                </a:solidFill>
                <a:latin typeface="Garamond"/>
              </a:rPr>
              <a:t>Zajemanje in obdelava procesnih veliči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39640" y="6021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anez SIPOŠ,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niv. dipl. inž. 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lektro in računalniška šola Ptu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000"/>
                </a:solidFill>
                <a:latin typeface="Arial"/>
              </a:rPr>
              <a:t>        </a:t>
            </a:r>
            <a:r>
              <a:rPr b="0" lang="sl-SI" sz="2800" spc="-1" strike="noStrike">
                <a:solidFill>
                  <a:srgbClr val="ffc000"/>
                </a:solidFill>
                <a:latin typeface="Arial"/>
              </a:rPr>
              <a:t>Napake instrum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Osnovni pojm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Veličina     =     Mersko število   </a:t>
            </a:r>
            <a:r>
              <a:rPr b="0" lang="sl-SI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En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Merilni rezulta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I = 10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jer pomeni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bol za vrednost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električnega to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ersko števi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A (Amper)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ota za električni 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orabljeni simbol (I) pomeni, da je električni tok 10 krat večji od enote ampera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rite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reden začnemo meriti, ocenimo merilni rezult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Glede na oceno velikosti merjene veličine, izberemo merilno sredstvo in glede na zahtevano točnost merilno meto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Največ dela pri merjenju je potrebno opraviti, preden priključimo prvi instr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Veda, ki določa pravila meritev je meroslovje ali metrolog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Rezultati merit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Prava vrednos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erjene veličine je idealna vrednost brez napake, ki je ne pozna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Izmerjena vrednos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je veličina, ki jo dobimo z merjenj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Merilna točnos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je sposobnost merila, da je izmerjena vrednost čim bliže pravi vred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Merilna sledljivos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omogoča navezavo na pripadajoče etal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Etalon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realizirajo enote fizikalnih veličin.  (http://www.siq.si/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roslov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Z zakoni, ki urejajo področje meritev, se ukvarj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Urad Republike Slovenije za meroslovj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(http://www.mirs.si/index.php?id=139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Delovna področja urada 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Znanstveno meroslovje 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Zakonsko meroslovj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Plemenite kovine 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Meroslovni nadzor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dnarodni sistem enot (SI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1397160"/>
          <a:ext cx="5715000" cy="4564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1650960"/>
              </a:tblGrid>
              <a:tr h="40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snovna velič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snovna enota 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ž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u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ični t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dinamična temp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žina sn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etil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dela, cande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27"/>
          <p:cNvSpPr/>
          <p:nvPr/>
        </p:nvSpPr>
        <p:spPr>
          <a:xfrm>
            <a:off x="1682280" y="6324480"/>
            <a:ext cx="53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ff"/>
                </a:solidFill>
                <a:latin typeface="Arial"/>
              </a:rPr>
              <a:t>http://www.mirs.si/index.php?id=3168&amp;no_cach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Decimalne predp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752480"/>
          <a:ext cx="5257800" cy="40640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43000"/>
                <a:gridCol w="2057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.000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k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k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.00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l-SI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.000.00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5"/>
          <p:cNvSpPr/>
          <p:nvPr/>
        </p:nvSpPr>
        <p:spPr>
          <a:xfrm>
            <a:off x="6172200" y="1676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čin zap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6"/>
          <p:cNvSpPr/>
          <p:nvPr/>
        </p:nvSpPr>
        <p:spPr>
          <a:xfrm>
            <a:off x="5867280" y="2209680"/>
            <a:ext cx="30481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epregledno    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Pregle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00123 V        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1,23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0123 A          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12,3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123.10</a:t>
            </a:r>
            <a:r>
              <a:rPr b="0" lang="sl-SI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     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123 </a:t>
            </a:r>
            <a:r>
              <a:rPr b="0" lang="sl-SI" sz="1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2300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12,3 k </a:t>
            </a:r>
            <a:r>
              <a:rPr b="0" lang="sl-SI" sz="18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,23 10</a:t>
            </a:r>
            <a:r>
              <a:rPr b="0" lang="sl-SI" sz="18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W       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123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Napaka pri merjenju (Pogrešek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Prava vrednost: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sl-SI" sz="3000" spc="-1" strike="noStrike">
                <a:solidFill>
                  <a:srgbClr val="000000"/>
                </a:solidFill>
                <a:latin typeface="Times New Roman CE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Izmerjena vrednost: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sl-SI" sz="3000" spc="-1" strike="noStrike">
                <a:solidFill>
                  <a:srgbClr val="000000"/>
                </a:solidFill>
                <a:latin typeface="Times New Roman CE"/>
              </a:rPr>
              <a:t>x</a:t>
            </a:r>
            <a:r>
              <a:rPr b="0" i="1" lang="sl-SI" sz="3000" spc="-1" strike="noStrike" baseline="-25000">
                <a:solidFill>
                  <a:srgbClr val="000000"/>
                </a:solidFill>
                <a:latin typeface="Times New Roman CE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Absolutna napak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l-SI" sz="3000" spc="-1" strike="noStrike">
                <a:solidFill>
                  <a:srgbClr val="000000"/>
                </a:solidFill>
                <a:latin typeface="Times New Roman CE"/>
              </a:rPr>
              <a:t>E = x</a:t>
            </a:r>
            <a:r>
              <a:rPr b="0" i="1" lang="sl-SI" sz="3000" spc="-1" strike="noStrike" baseline="-25000">
                <a:solidFill>
                  <a:srgbClr val="000000"/>
                </a:solidFill>
                <a:latin typeface="Times New Roman CE"/>
              </a:rPr>
              <a:t>i </a:t>
            </a:r>
            <a:r>
              <a:rPr b="0" i="1" lang="sl-SI" sz="3000" spc="-1" strike="noStrike">
                <a:solidFill>
                  <a:srgbClr val="000000"/>
                </a:solidFill>
                <a:latin typeface="Times New Roman CE"/>
              </a:rPr>
              <a:t>–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Relativn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(procentualna) </a:t>
            </a: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napak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8576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24"/>
              <p:cNvSpPr txBox="1"/>
              <p:nvPr/>
            </p:nvSpPr>
            <p:spPr>
              <a:xfrm>
                <a:off x="2743200" y="4800600"/>
                <a:ext cx="3429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6028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Garamond"/>
              </a:rPr>
              <a:t>Pogreš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umerjanje"/>
          <p:cNvPicPr/>
          <p:nvPr/>
        </p:nvPicPr>
        <p:blipFill>
          <a:blip r:embed="rId1"/>
          <a:stretch/>
        </p:blipFill>
        <p:spPr>
          <a:xfrm>
            <a:off x="971640" y="907920"/>
            <a:ext cx="7692840" cy="5786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4932360" y="486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Precizijski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24000" y="522936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Obrato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rilne napa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57200" y="18288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" y="1600200"/>
            <a:ext cx="2133720" cy="785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ISTEMATS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P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352680" y="1600200"/>
            <a:ext cx="2286000" cy="785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AKLJUČ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P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705720" y="1600200"/>
            <a:ext cx="1523880" cy="785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G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P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H="1">
            <a:off x="1599840" y="990720"/>
            <a:ext cx="198108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343400" y="990720"/>
            <a:ext cx="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5486400" y="990720"/>
            <a:ext cx="182880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57200" y="2819520"/>
            <a:ext cx="2133720" cy="785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zroke je mogo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j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352680" y="2819520"/>
            <a:ext cx="2286000" cy="7855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zrokov ni mogo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j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705720" y="2819520"/>
            <a:ext cx="152388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zroke je mogoče prepreč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1447920" y="2438280"/>
            <a:ext cx="0" cy="381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4343400" y="2362320"/>
            <a:ext cx="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7391520" y="2438280"/>
            <a:ext cx="0" cy="381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457200" y="4191120"/>
            <a:ext cx="213372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ilna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pliv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adec pomožn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1447920" y="36576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352680" y="4114800"/>
            <a:ext cx="236232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re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ihanje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ihanje tl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tilna nape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419720" y="3657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6553080" y="4114800"/>
            <a:ext cx="1828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ezaneslj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men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ransportna okv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739152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Srednja vrednost (aritmetična sred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Pri večkratnem ponavljanju meritve pri istih pogojih in istih merilnih napravah, dobimo različne vrednosti rezultato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Če je sistemska napaka odpravljena, je </a:t>
            </a: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srednja vrednost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vseh vrednosti meritev enaka </a:t>
            </a:r>
            <a:r>
              <a:rPr b="0" lang="sl-SI" sz="2600" spc="-1" strike="noStrike">
                <a:solidFill>
                  <a:srgbClr val="ff3300"/>
                </a:solidFill>
                <a:latin typeface="Arial"/>
              </a:rPr>
              <a:t>pravi vrednosti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merjene velič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2004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0"/>
              <p:cNvSpPr txBox="1"/>
              <p:nvPr/>
            </p:nvSpPr>
            <p:spPr>
              <a:xfrm>
                <a:off x="4648320" y="2209680"/>
                <a:ext cx="403848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Text Box 8"/>
          <p:cNvSpPr/>
          <p:nvPr/>
        </p:nvSpPr>
        <p:spPr>
          <a:xfrm>
            <a:off x="4952880" y="533412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 – število vseh me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 – katera me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Literatur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Franc Bergelj, Osnove meritev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nton Orehek, Merilniki in merilne metode v elektroniki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nton Pozne, Električne meritv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Janez Trontelj, Meritve v elektronik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Ivan Mavsar, Električne meritv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Franc Mlakar, Splošne električne meritv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Sistemska in naključna napa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0880" y="106668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apaki povzročata, da se ob ponavljanju iste meritve, izmerjene vrednosti razlikuje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sis_naklj_pogr"/>
          <p:cNvPicPr/>
          <p:nvPr/>
        </p:nvPicPr>
        <p:blipFill>
          <a:blip r:embed="rId1"/>
          <a:stretch/>
        </p:blipFill>
        <p:spPr>
          <a:xfrm>
            <a:off x="457200" y="1905120"/>
            <a:ext cx="3006720" cy="3028680"/>
          </a:xfrm>
          <a:prstGeom prst="rect">
            <a:avLst/>
          </a:prstGeom>
          <a:ln w="0">
            <a:noFill/>
          </a:ln>
        </p:spPr>
      </p:pic>
      <p:sp>
        <p:nvSpPr>
          <p:cNvPr id="169" name="Line 8"/>
          <p:cNvSpPr/>
          <p:nvPr/>
        </p:nvSpPr>
        <p:spPr>
          <a:xfrm flipV="1">
            <a:off x="1981080" y="2895480"/>
            <a:ext cx="457200" cy="533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2209680" y="2590920"/>
            <a:ext cx="5335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133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Times New Roman CE"/>
              </a:rPr>
              <a:t>E</a:t>
            </a:r>
            <a:r>
              <a:rPr b="0" lang="sl-SI" sz="1200" spc="-1" strike="noStrike">
                <a:solidFill>
                  <a:srgbClr val="ff3300"/>
                </a:solidFill>
                <a:latin typeface="Times New Roman CE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4382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Times New Roman CE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20040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3"/>
              <p:cNvSpPr txBox="1"/>
              <p:nvPr/>
            </p:nvSpPr>
            <p:spPr>
              <a:xfrm>
                <a:off x="4419720" y="1905120"/>
                <a:ext cx="27432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Text Box 16"/>
          <p:cNvSpPr/>
          <p:nvPr/>
        </p:nvSpPr>
        <p:spPr>
          <a:xfrm>
            <a:off x="4191120" y="2666880"/>
            <a:ext cx="48006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istematska napaka (Es) povzroča odmik od središča (prave vrednosti), naključna napaka (Er) pa razprše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Če tvorimo aritmetično sredino (x) izmerjenih vrednosti, se ob velikem številu meritev vpliv naključne napake manjša proti ni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9432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20574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0"/>
              <p:cNvSpPr txBox="1"/>
              <p:nvPr/>
            </p:nvSpPr>
            <p:spPr>
              <a:xfrm>
                <a:off x="457200" y="5029200"/>
                <a:ext cx="70102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Oval 22"/>
          <p:cNvSpPr/>
          <p:nvPr/>
        </p:nvSpPr>
        <p:spPr>
          <a:xfrm>
            <a:off x="3657600" y="4952880"/>
            <a:ext cx="1828800" cy="129564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5562720" y="45720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gre proti nič, ko N</a:t>
            </a:r>
            <a:r>
              <a:rPr b="0" lang="sl-SI" sz="1800" spc="-1" strike="noStrike">
                <a:solidFill>
                  <a:srgbClr val="ff3300"/>
                </a:solidFill>
                <a:latin typeface="Symbol"/>
                <a:ea typeface="Symbol"/>
              </a:rPr>
              <a:t>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 flipV="1">
            <a:off x="5257800" y="4876920"/>
            <a:ext cx="38088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895480" y="4267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Groba napa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2286000" y="4419720"/>
            <a:ext cx="685800" cy="759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je napake (pogreška) </a:t>
            </a:r>
            <a:r>
              <a:rPr b="0" lang="sl-SI" sz="2000" spc="-1" strike="noStrike">
                <a:solidFill>
                  <a:srgbClr val="006633"/>
                </a:solidFill>
                <a:latin typeface="Garamond"/>
              </a:rPr>
              <a:t>(1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57200" y="1295280"/>
            <a:ext cx="838188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Če je merilna naprava brezhibna in jo uporabljamo v mejah referenčnih pogojev, temeljna napaka (razred instrumenta) ne sme preseči določene vrednosti, ki ji pravimo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meja napake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sl-SI" sz="1800" spc="-1" strike="noStrike" baseline="-25000">
                <a:solidFill>
                  <a:srgbClr val="ff3300"/>
                </a:solidFill>
                <a:latin typeface="Arial"/>
              </a:rPr>
              <a:t>x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Razred instrumenta – r (temeljna napaka)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je definirana na referenčno vrednost merjene veličine Xr, ki je lahk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66ff"/>
                </a:solidFill>
                <a:latin typeface="Arial"/>
              </a:rPr>
              <a:t>merilni doseg X</a:t>
            </a:r>
            <a:r>
              <a:rPr b="0" lang="sl-SI" sz="14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sl-SI" sz="1800" spc="-1" strike="noStrike">
                <a:solidFill>
                  <a:srgbClr val="0066ff"/>
                </a:solidFill>
                <a:latin typeface="Arial"/>
              </a:rPr>
              <a:t>, oznaka na instrumentu 1,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ilni razpon X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, oznaka na instrumentu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sakokratna izmerjena vrednost Xi, oznaka na instrumentu  1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olžina skale 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e ne uporablja),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znaka na instrumentu  1 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57200" y="457200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rede instrumentov ( r ) delimo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cizijski: 0,1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Laboratorijski: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bratovni: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,0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7086600" y="38098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716292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7315200" y="44193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red instru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razred_inst"/>
          <p:cNvPicPr/>
          <p:nvPr/>
        </p:nvPicPr>
        <p:blipFill>
          <a:blip r:embed="rId1"/>
          <a:stretch/>
        </p:blipFill>
        <p:spPr>
          <a:xfrm>
            <a:off x="3780000" y="49320"/>
            <a:ext cx="5151240" cy="6808680"/>
          </a:xfrm>
          <a:prstGeom prst="rect">
            <a:avLst/>
          </a:prstGeom>
          <a:ln w="0">
            <a:noFill/>
          </a:ln>
        </p:spPr>
      </p:pic>
      <p:sp>
        <p:nvSpPr>
          <p:cNvPr id="192" name="Oval 6"/>
          <p:cNvSpPr/>
          <p:nvPr/>
        </p:nvSpPr>
        <p:spPr>
          <a:xfrm>
            <a:off x="7451640" y="4508640"/>
            <a:ext cx="50508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124000" y="907920"/>
            <a:ext cx="5184720" cy="367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1773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 = 0,5  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24000" y="2637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0"/>
              <p:cNvSpPr txBox="1"/>
              <p:nvPr/>
            </p:nvSpPr>
            <p:spPr>
              <a:xfrm>
                <a:off x="250920" y="5084640"/>
                <a:ext cx="3313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0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0,6</m:t>
                        </m:r>
                        <m:r>
                          <m:t xml:space="preserve">V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Text Box 11"/>
          <p:cNvSpPr/>
          <p:nvPr/>
        </p:nvSpPr>
        <p:spPr>
          <a:xfrm>
            <a:off x="250920" y="42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je napake pri polnem odkl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68360" y="333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red instru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84360" y="177336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 = 1,5   (%) enosm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 = 2,5  (%) izmenič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24000" y="2637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258840" y="5084640"/>
                <a:ext cx="38815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,5</m:t>
                        </m:r>
                        <m:r>
                          <m:t xml:space="preserve">V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Text Box 9"/>
          <p:cNvSpPr/>
          <p:nvPr/>
        </p:nvSpPr>
        <p:spPr>
          <a:xfrm>
            <a:off x="250920" y="422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je napake pri polnem odkl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skala_1"/>
          <p:cNvPicPr/>
          <p:nvPr/>
        </p:nvPicPr>
        <p:blipFill>
          <a:blip r:embed="rId1"/>
          <a:stretch/>
        </p:blipFill>
        <p:spPr>
          <a:xfrm>
            <a:off x="4067280" y="2060640"/>
            <a:ext cx="4762440" cy="2714400"/>
          </a:xfrm>
          <a:prstGeom prst="rect">
            <a:avLst/>
          </a:prstGeom>
          <a:ln w="0">
            <a:noFill/>
          </a:ln>
        </p:spPr>
      </p:pic>
      <p:sp>
        <p:nvSpPr>
          <p:cNvPr id="204" name="Line 12"/>
          <p:cNvSpPr/>
          <p:nvPr/>
        </p:nvSpPr>
        <p:spPr>
          <a:xfrm>
            <a:off x="2124000" y="981000"/>
            <a:ext cx="5616720" cy="3168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7740720" y="4005360"/>
            <a:ext cx="431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4633920" y="5084640"/>
                <a:ext cx="39020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2,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,5</m:t>
                        </m:r>
                        <m:r>
                          <m:t xml:space="preserve">V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je napake (pogreška) </a:t>
            </a:r>
            <a:r>
              <a:rPr b="0" lang="sl-SI" sz="2000" spc="-1" strike="noStrike">
                <a:solidFill>
                  <a:srgbClr val="006633"/>
                </a:solidFill>
                <a:latin typeface="Garamond"/>
              </a:rPr>
              <a:t>(2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48624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0"/>
              <p:cNvSpPr txBox="1"/>
              <p:nvPr/>
            </p:nvSpPr>
            <p:spPr>
              <a:xfrm>
                <a:off x="914400" y="1828800"/>
                <a:ext cx="21718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6"/>
          <p:cNvSpPr/>
          <p:nvPr/>
        </p:nvSpPr>
        <p:spPr>
          <a:xfrm>
            <a:off x="391464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800600" y="1905120"/>
                <a:ext cx="13143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Text Box 7"/>
          <p:cNvSpPr/>
          <p:nvPr/>
        </p:nvSpPr>
        <p:spPr>
          <a:xfrm>
            <a:off x="914400" y="3352680"/>
            <a:ext cx="5334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r – razred to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Xr – referenčna vrednost merjene veli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x – relativna meja napake (pogreš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x[%] – relativna napaka v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Xi – izmerjena vr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H="1">
            <a:off x="1218960" y="914400"/>
            <a:ext cx="533160" cy="1143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65760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6858000" y="1981080"/>
                <a:ext cx="182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 Box 11"/>
          <p:cNvSpPr/>
          <p:nvPr/>
        </p:nvSpPr>
        <p:spPr>
          <a:xfrm>
            <a:off x="6012000" y="3429000"/>
            <a:ext cx="28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Če je xr =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e m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/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Primer izračun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80880" y="1143000"/>
            <a:ext cx="8077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mamo voltmeter razreda r = 0,5 z merilnim dosegom U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100V. Prvič kaže Ui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15,5V in drugič Ui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92,4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bsolutna meja napak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2287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2124000" y="2276640"/>
                <a:ext cx="46864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0,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Text Box 6"/>
          <p:cNvSpPr/>
          <p:nvPr/>
        </p:nvSpPr>
        <p:spPr>
          <a:xfrm>
            <a:off x="380880" y="3124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lativna meja napake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22876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209680" y="3581280"/>
                <a:ext cx="4686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3,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10"/>
          <p:cNvSpPr/>
          <p:nvPr/>
        </p:nvSpPr>
        <p:spPr>
          <a:xfrm>
            <a:off x="220968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209680" y="4495680"/>
                <a:ext cx="4724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5,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Text Box 11"/>
          <p:cNvSpPr/>
          <p:nvPr/>
        </p:nvSpPr>
        <p:spPr>
          <a:xfrm>
            <a:off x="53352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Priporočilo!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Uporabljajmo le zadnji dve tretjini kazalnega območja instrumen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lipsa 13"/>
          <p:cNvSpPr/>
          <p:nvPr/>
        </p:nvSpPr>
        <p:spPr>
          <a:xfrm>
            <a:off x="2071800" y="2214720"/>
            <a:ext cx="4929120" cy="92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Kako merim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3716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skala_pogresek"/>
          <p:cNvPicPr/>
          <p:nvPr/>
        </p:nvPicPr>
        <p:blipFill>
          <a:blip r:embed="rId1"/>
          <a:stretch/>
        </p:blipFill>
        <p:spPr>
          <a:xfrm>
            <a:off x="380880" y="2362320"/>
            <a:ext cx="8305920" cy="2894040"/>
          </a:xfrm>
          <a:prstGeom prst="rect">
            <a:avLst/>
          </a:prstGeom>
          <a:ln w="0">
            <a:noFill/>
          </a:ln>
        </p:spPr>
      </p:pic>
      <p:sp>
        <p:nvSpPr>
          <p:cNvPr id="231" name="Line 7"/>
          <p:cNvSpPr/>
          <p:nvPr/>
        </p:nvSpPr>
        <p:spPr>
          <a:xfrm flipV="1">
            <a:off x="2971800" y="2895120"/>
            <a:ext cx="1143000" cy="312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je napake (pogreška) </a:t>
            </a:r>
            <a:r>
              <a:rPr b="0" lang="sl-SI" sz="2000" spc="-1" strike="noStrike">
                <a:solidFill>
                  <a:srgbClr val="006633"/>
                </a:solidFill>
                <a:latin typeface="Garamond"/>
              </a:rPr>
              <a:t>(3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57200" y="16765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digitalne instrumente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se običajno podaja meja napak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086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0"/>
              <p:cNvSpPr txBox="1"/>
              <p:nvPr/>
            </p:nvSpPr>
            <p:spPr>
              <a:xfrm>
                <a:off x="927000" y="2743200"/>
                <a:ext cx="264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7"/>
          <p:cNvSpPr/>
          <p:nvPr/>
        </p:nvSpPr>
        <p:spPr>
          <a:xfrm>
            <a:off x="3086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"/>
              <p:cNvSpPr txBox="1"/>
              <p:nvPr/>
            </p:nvSpPr>
            <p:spPr>
              <a:xfrm>
                <a:off x="787320" y="4267080"/>
                <a:ext cx="2919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igi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Text Box 8"/>
          <p:cNvSpPr/>
          <p:nvPr/>
        </p:nvSpPr>
        <p:spPr>
          <a:xfrm>
            <a:off x="304920" y="5791320"/>
            <a:ext cx="281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– merilni do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Xi – izmerjena vr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038480" y="21337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ja napake na merilni do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 flipV="1">
            <a:off x="3200400" y="2437920"/>
            <a:ext cx="838080" cy="381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733920" y="5257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igit (številka) – najmanjše ali zadnje decimalno m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429000" y="4648320"/>
            <a:ext cx="380880" cy="6094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114800" y="3352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ja napake na vsakokratno izmerjeno vr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2133720" y="3124080"/>
            <a:ext cx="1904760" cy="457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 flipV="1">
            <a:off x="2209680" y="3580920"/>
            <a:ext cx="1752840" cy="6858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Slika 15" descr="opozorilo_mer_1.GIF"/>
          <p:cNvPicPr/>
          <p:nvPr/>
        </p:nvPicPr>
        <p:blipFill>
          <a:blip r:embed="rId1"/>
          <a:stretch/>
        </p:blipFill>
        <p:spPr>
          <a:xfrm>
            <a:off x="7286760" y="357120"/>
            <a:ext cx="16286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Primer izračun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80880" y="1219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igitalni voltmeter ima merilni doseg U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2V, kaže Ui = 1,204V, deklarirana meja napake pa je Mu=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0,05%Ui+0,02%U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19432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762120" y="2133720"/>
                <a:ext cx="6858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0,6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609480" y="33526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Če je meja napake deklarirana s številom digitov je za primer: Mu=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0,5%Ui+2d), Ui=1,347 in 1d=0,001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28242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838080" y="4267080"/>
                <a:ext cx="4572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0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7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8,8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Primer izračun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5" name="Slika 3" descr="dok_dig_inst_1.jpg"/>
          <p:cNvPicPr/>
          <p:nvPr/>
        </p:nvPicPr>
        <p:blipFill>
          <a:blip r:embed="rId1"/>
          <a:stretch/>
        </p:blipFill>
        <p:spPr>
          <a:xfrm>
            <a:off x="1000080" y="1214280"/>
            <a:ext cx="7143840" cy="4802400"/>
          </a:xfrm>
          <a:prstGeom prst="rect">
            <a:avLst/>
          </a:prstGeom>
          <a:ln w="0">
            <a:noFill/>
          </a:ln>
        </p:spPr>
      </p:pic>
      <p:sp>
        <p:nvSpPr>
          <p:cNvPr id="256" name="PoljeZBesedilom 4"/>
          <p:cNvSpPr/>
          <p:nvPr/>
        </p:nvSpPr>
        <p:spPr>
          <a:xfrm>
            <a:off x="5286240" y="7142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PAKA - to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Raven puščični konektor 6"/>
          <p:cNvCxnSpPr/>
          <p:nvPr/>
        </p:nvCxnSpPr>
        <p:spPr>
          <a:xfrm flipH="1">
            <a:off x="6143040" y="1143000"/>
            <a:ext cx="21492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8" name="PoljeZBesedilom 7"/>
          <p:cNvSpPr/>
          <p:nvPr/>
        </p:nvSpPr>
        <p:spPr>
          <a:xfrm>
            <a:off x="2571840" y="9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ilno območ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Raven puščični konektor 9"/>
          <p:cNvCxnSpPr/>
          <p:nvPr/>
        </p:nvCxnSpPr>
        <p:spPr>
          <a:xfrm>
            <a:off x="3286080" y="1214280"/>
            <a:ext cx="1286640" cy="858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0" name="PoljeZBesedilom 10"/>
          <p:cNvSpPr/>
          <p:nvPr/>
        </p:nvSpPr>
        <p:spPr>
          <a:xfrm>
            <a:off x="7715160" y="8571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solu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Raven puščični konektor 12"/>
          <p:cNvCxnSpPr/>
          <p:nvPr/>
        </p:nvCxnSpPr>
        <p:spPr>
          <a:xfrm flipH="1">
            <a:off x="7214400" y="1285920"/>
            <a:ext cx="142956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2" name="Slika 13" descr="opozorilo_mer_1.GIF"/>
          <p:cNvPicPr/>
          <p:nvPr/>
        </p:nvPicPr>
        <p:blipFill>
          <a:blip r:embed="rId2"/>
          <a:stretch/>
        </p:blipFill>
        <p:spPr>
          <a:xfrm>
            <a:off x="0" y="928800"/>
            <a:ext cx="1628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11280" y="404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6633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4360" y="1557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ritev je primerjanje znane veličine z nezn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431710"/>
          <p:cNvPicPr/>
          <p:nvPr/>
        </p:nvPicPr>
        <p:blipFill>
          <a:blip r:embed="rId1"/>
          <a:stretch/>
        </p:blipFill>
        <p:spPr>
          <a:xfrm>
            <a:off x="971640" y="23493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j0397684"/>
          <p:cNvPicPr/>
          <p:nvPr/>
        </p:nvPicPr>
        <p:blipFill>
          <a:blip r:embed="rId2"/>
          <a:stretch/>
        </p:blipFill>
        <p:spPr>
          <a:xfrm>
            <a:off x="5292720" y="2205000"/>
            <a:ext cx="2448000" cy="178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mer_dol_1"/>
          <p:cNvPicPr/>
          <p:nvPr/>
        </p:nvPicPr>
        <p:blipFill>
          <a:blip r:embed="rId3"/>
          <a:stretch/>
        </p:blipFill>
        <p:spPr>
          <a:xfrm>
            <a:off x="5076720" y="4076640"/>
            <a:ext cx="29782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Podajanje merilnih rezultato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80880" y="1295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zultat merjenja podamo tako, da navedemo izmerjeno vrednost in negotovost (interval mej točnost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37720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2895480" y="1981080"/>
                <a:ext cx="1600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2590920"/>
            <a:ext cx="81532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egotovost (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)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zaokrožimo vedno navzgor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. Če je prva številka (ničle ne štejemo) 3 do 9 zaokrožimo na tem mestu. Če je 1 ali 2 pa na naslednjem nižjem decimalnem mes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zmerjeno vrednost zaokrožimo na decimalnem mestu, ki ga določa  negotovost. Če je </a:t>
            </a:r>
            <a:r>
              <a:rPr b="0" lang="sl-SI" sz="1800" spc="-1" strike="noStrike" u="sng">
                <a:solidFill>
                  <a:srgbClr val="000000"/>
                </a:solidFill>
                <a:uFillTx/>
                <a:latin typeface="Arial"/>
              </a:rPr>
              <a:t>desno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od mesta zaokrožitve števil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 do 4, ne spreme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5 do 9 pa zaokrožimo navzg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33520" y="5181480"/>
            <a:ext cx="8076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3300"/>
                </a:solidFill>
                <a:latin typeface="Arial"/>
              </a:rPr>
              <a:t>Primer: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izmerjena vrednost je: U=13,345V in meje napake M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l-SI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0,12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Najprej zaokrožimo merilno negotovost: M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l-SI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0,1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Merilni rezultat: </a:t>
            </a:r>
            <a:r>
              <a:rPr b="0" lang="sl-SI" sz="1400" spc="-1" strike="noStrike">
                <a:solidFill>
                  <a:srgbClr val="ff0000"/>
                </a:solidFill>
                <a:latin typeface="Arial"/>
              </a:rPr>
              <a:t>U=13,35V </a:t>
            </a:r>
            <a:r>
              <a:rPr b="0" lang="sl-SI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sl-SI" sz="1400" spc="-1" strike="noStrike">
                <a:solidFill>
                  <a:srgbClr val="ff0000"/>
                </a:solidFill>
                <a:latin typeface="Arial"/>
              </a:rPr>
              <a:t>0,1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Va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0" name="Picture 4" descr="pod_inst"/>
          <p:cNvPicPr/>
          <p:nvPr/>
        </p:nvPicPr>
        <p:blipFill>
          <a:blip r:embed="rId1"/>
          <a:stretch/>
        </p:blipFill>
        <p:spPr>
          <a:xfrm>
            <a:off x="4038480" y="1676520"/>
            <a:ext cx="4686480" cy="1477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4267080" y="42670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odaj merilni rezult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dig_v_meter_min"/>
          <p:cNvPicPr/>
          <p:nvPr/>
        </p:nvPicPr>
        <p:blipFill>
          <a:blip r:embed="rId2"/>
          <a:stretch/>
        </p:blipFill>
        <p:spPr>
          <a:xfrm>
            <a:off x="380880" y="1066680"/>
            <a:ext cx="3657600" cy="4880160"/>
          </a:xfrm>
          <a:prstGeom prst="rect">
            <a:avLst/>
          </a:prstGeom>
          <a:ln w="0">
            <a:noFill/>
          </a:ln>
        </p:spPr>
      </p:pic>
      <p:pic>
        <p:nvPicPr>
          <p:cNvPr id="273" name="Slika 5" descr="opozorilo_mer_1.GIF"/>
          <p:cNvPicPr/>
          <p:nvPr/>
        </p:nvPicPr>
        <p:blipFill>
          <a:blip r:embed="rId3"/>
          <a:stretch/>
        </p:blipFill>
        <p:spPr>
          <a:xfrm>
            <a:off x="7215120" y="4500720"/>
            <a:ext cx="1629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Rešitev vaj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609480" y="1676520"/>
            <a:ext cx="6705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dčitamo z instrumenta in iz priloženih podatk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i = 1,209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 = U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= 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0,5%Ui + 1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d = 0,001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zračun meje napake oziroma velikost negotov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(0,5/100)1,209V + 0,001V)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0,007045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7,045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okrožimo na: M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008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zultat: Ui = 1,209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0,008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685800" y="57913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zmerjena vrednost leži v intervalu: </a:t>
            </a:r>
            <a:r>
              <a:rPr b="0" lang="sl-SI" sz="1800" spc="-1" strike="noStrike">
                <a:solidFill>
                  <a:srgbClr val="ff3300"/>
                </a:solidFill>
                <a:latin typeface="Arial"/>
              </a:rPr>
              <a:t>1,201V &lt; Ui &lt; 1,217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609480" y="5334120"/>
            <a:ext cx="3124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539640" y="333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6633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1341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ritev nam zagotavlja ustrezno kvaliteto proizvodov in pridobivanje podatkov za nadaljnjo d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klj_merilo_1"/>
          <p:cNvPicPr/>
          <p:nvPr/>
        </p:nvPicPr>
        <p:blipFill>
          <a:blip r:embed="rId1"/>
          <a:stretch/>
        </p:blipFill>
        <p:spPr>
          <a:xfrm>
            <a:off x="539640" y="2781360"/>
            <a:ext cx="4176720" cy="326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klj_mer_dig_1"/>
          <p:cNvPicPr/>
          <p:nvPr/>
        </p:nvPicPr>
        <p:blipFill>
          <a:blip r:embed="rId2"/>
          <a:stretch/>
        </p:blipFill>
        <p:spPr>
          <a:xfrm>
            <a:off x="4932360" y="2781360"/>
            <a:ext cx="36352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Uvod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2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Kvalitet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(kakovost) - lastnosti stvari ali pojavov, ki določajo njihove karakteristike. Kvaliteto določamo z merjenjem po vnaprej določenih kriterijih, za katere se dogovorita strank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Zanesljivost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– podaja sposobnost izdelka, da opravlja svojo funkcijo določen čas. Življenjska doba izdelka. Zanesljivost se lahko določi matematič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Osnovni pojm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Veličin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– lastnost pojava, telesa ali snovi, ki se da razlikovati kakovostno in določiti količinsko. (dolžina, el. tok, it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Osnovne veličine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– so med seboj neodvisne veličine. Nasprotne od teh so izpeljane veličine, ki pa vsebujejo osnovne velič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Mersk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enota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– dogovorno sprejeta določena veličina, ki jo uporabljamo za izražanje veličin iste dimenz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Električne velič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Električni tok,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lahko primerjamo z vodnim tokom reke ali tokom vode po vodovodnih ceve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Električna napetost,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lahko primerjamo s pritiskom vode v vodovodnih ceveh ali višinsko razliko pri reka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3300"/>
                </a:solidFill>
                <a:latin typeface="Arial"/>
              </a:rPr>
              <a:t>Električna upornost,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lahko primerjamo s  premerom cevi po kateri teče vo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6633"/>
                </a:solidFill>
                <a:latin typeface="Garamond"/>
              </a:rPr>
              <a:t>Merjenje električnih velič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Električni tok – enota Amper [A], merilni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A-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Električna napetost – enota Volt [V], merilnik V-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68360" y="260280"/>
            <a:ext cx="446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Garamond"/>
              </a:rPr>
              <a:t>Analogni merilnik električnega toka in napet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PHYWE_1a"/>
          <p:cNvPicPr/>
          <p:nvPr/>
        </p:nvPicPr>
        <p:blipFill>
          <a:blip r:embed="rId1"/>
          <a:stretch/>
        </p:blipFill>
        <p:spPr>
          <a:xfrm>
            <a:off x="4643280" y="0"/>
            <a:ext cx="4184640" cy="666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Volt_Meter"/>
          <p:cNvPicPr/>
          <p:nvPr/>
        </p:nvPicPr>
        <p:blipFill>
          <a:blip r:embed="rId2"/>
          <a:stretch/>
        </p:blipFill>
        <p:spPr>
          <a:xfrm>
            <a:off x="826920" y="256536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5:01:29Z</dcterms:created>
  <dc:creator>Elektro šola ptuj</dc:creator>
  <dc:description/>
  <dc:language>en-US</dc:language>
  <cp:lastModifiedBy>Klarisa</cp:lastModifiedBy>
  <dcterms:modified xsi:type="dcterms:W3CDTF">2012-09-24T18:54:30Z</dcterms:modified>
  <cp:revision>61</cp:revision>
  <dc:subject/>
  <dc:title>Meritve v mehatroniki</dc:title>
</cp:coreProperties>
</file>